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482C-6888-4ACC-B8F0-FCCD8AF7C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5215-A34D-40EA-A292-BCB9E3A6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F5F2-96A7-4DCC-93EE-07A33C94D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9370-BAF2-442E-8E54-CEE20CA10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90FF-08C1-4327-9BE9-93F333F5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0EB7-FE99-40D8-BA14-4B99FBB7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1A21-A70F-4597-8DE7-12EC9D63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D29D-2563-4520-A7DC-DC3D737C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63FE-1A68-4534-B989-03CB39D2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380F-215E-4FBE-A399-FD0A7A5C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F179-3504-4676-B2F6-592FC317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BB9A-1E72-4990-BD30-C70D6CE2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A553-EEBE-4F3B-961F-85A450B90D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30080" y="1198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S 245: Database System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93920" y="4277880"/>
            <a:ext cx="64008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ctor Garcia-Moli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1532520" y="2999880"/>
            <a:ext cx="634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otes 5: Hashing and Mo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FE4F-8D6E-4D80-943F-FF87973A2EF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733920" y="2209680"/>
            <a:ext cx="1447560" cy="762120"/>
            <a:chOff x="3733920" y="2209680"/>
            <a:chExt cx="1447560" cy="762120"/>
          </a:xfrm>
        </p:grpSpPr>
        <p:sp>
          <p:nvSpPr>
            <p:cNvPr id="139" name=""/>
            <p:cNvSpPr/>
            <p:nvPr/>
          </p:nvSpPr>
          <p:spPr>
            <a:xfrm>
              <a:off x="3733920" y="2209680"/>
              <a:ext cx="12189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52880" y="2209680"/>
              <a:ext cx="22860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33920" y="25909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733920" y="2971800"/>
            <a:ext cx="1447560" cy="762120"/>
            <a:chOff x="3733920" y="2971800"/>
            <a:chExt cx="1447560" cy="762120"/>
          </a:xfrm>
        </p:grpSpPr>
        <p:sp>
          <p:nvSpPr>
            <p:cNvPr id="143" name=""/>
            <p:cNvSpPr/>
            <p:nvPr/>
          </p:nvSpPr>
          <p:spPr>
            <a:xfrm>
              <a:off x="3733920" y="2971800"/>
              <a:ext cx="12189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52880" y="2971800"/>
              <a:ext cx="22860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33920" y="33530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733920" y="3733920"/>
            <a:ext cx="1447560" cy="761760"/>
            <a:chOff x="3733920" y="3733920"/>
            <a:chExt cx="1447560" cy="761760"/>
          </a:xfrm>
        </p:grpSpPr>
        <p:sp>
          <p:nvSpPr>
            <p:cNvPr id="147" name=""/>
            <p:cNvSpPr/>
            <p:nvPr/>
          </p:nvSpPr>
          <p:spPr>
            <a:xfrm>
              <a:off x="3733920" y="3733920"/>
              <a:ext cx="121896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52880" y="3733920"/>
              <a:ext cx="228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33920" y="4114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733920" y="4495680"/>
            <a:ext cx="1447560" cy="762120"/>
            <a:chOff x="3733920" y="4495680"/>
            <a:chExt cx="1447560" cy="762120"/>
          </a:xfrm>
        </p:grpSpPr>
        <p:sp>
          <p:nvSpPr>
            <p:cNvPr id="151" name=""/>
            <p:cNvSpPr/>
            <p:nvPr/>
          </p:nvSpPr>
          <p:spPr>
            <a:xfrm>
              <a:off x="3733920" y="4495680"/>
              <a:ext cx="12189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952880" y="4495680"/>
              <a:ext cx="22860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33920" y="48769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351600" y="2113920"/>
            <a:ext cx="311760" cy="26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2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943600" y="2971800"/>
            <a:ext cx="1447560" cy="762120"/>
            <a:chOff x="5943600" y="2971800"/>
            <a:chExt cx="1447560" cy="762120"/>
          </a:xfrm>
        </p:grpSpPr>
        <p:sp>
          <p:nvSpPr>
            <p:cNvPr id="156" name=""/>
            <p:cNvSpPr/>
            <p:nvPr/>
          </p:nvSpPr>
          <p:spPr>
            <a:xfrm>
              <a:off x="5943600" y="2971800"/>
              <a:ext cx="12189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162560" y="2971800"/>
              <a:ext cx="22860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43600" y="33530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192560" y="22086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4183200" y="28944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4204440" y="327564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4191840" y="37328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6392880" y="29707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5105520" y="30481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EXAMPLE: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dele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514440" y="2025720"/>
            <a:ext cx="169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let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4220280" y="441864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4178160" y="47995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114800" y="3860640"/>
            <a:ext cx="2396880" cy="1344600"/>
            <a:chOff x="4114800" y="3860640"/>
            <a:chExt cx="2396880" cy="1344600"/>
          </a:xfrm>
        </p:grpSpPr>
        <p:sp>
          <p:nvSpPr>
            <p:cNvPr id="170" name=""/>
            <p:cNvSpPr/>
            <p:nvPr/>
          </p:nvSpPr>
          <p:spPr>
            <a:xfrm>
              <a:off x="4152960" y="3860640"/>
              <a:ext cx="431640" cy="216000"/>
            </a:xfrm>
            <a:custGeom>
              <a:avLst/>
              <a:gdLst/>
              <a:ahLst/>
              <a:rect l="l" t="t" r="r" b="b"/>
              <a:pathLst>
                <a:path w="272" h="136">
                  <a:moveTo>
                    <a:pt x="0" y="136"/>
                  </a:moveTo>
                  <a:cubicBezTo>
                    <a:pt x="49" y="126"/>
                    <a:pt x="94" y="124"/>
                    <a:pt x="136" y="96"/>
                  </a:cubicBezTo>
                  <a:cubicBezTo>
                    <a:pt x="159" y="28"/>
                    <a:pt x="230" y="42"/>
                    <a:pt x="272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14800" y="4533840"/>
              <a:ext cx="431640" cy="216000"/>
            </a:xfrm>
            <a:custGeom>
              <a:avLst/>
              <a:gdLst/>
              <a:ahLst/>
              <a:rect l="l" t="t" r="r" b="b"/>
              <a:pathLst>
                <a:path w="272" h="136">
                  <a:moveTo>
                    <a:pt x="0" y="136"/>
                  </a:moveTo>
                  <a:cubicBezTo>
                    <a:pt x="49" y="126"/>
                    <a:pt x="94" y="124"/>
                    <a:pt x="136" y="96"/>
                  </a:cubicBezTo>
                  <a:cubicBezTo>
                    <a:pt x="159" y="28"/>
                    <a:pt x="230" y="42"/>
                    <a:pt x="272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02640" y="4624560"/>
              <a:ext cx="1409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maybe mov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“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g” up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788000" y="4648320"/>
              <a:ext cx="426960" cy="406440"/>
            </a:xfrm>
            <a:custGeom>
              <a:avLst/>
              <a:gdLst/>
              <a:ahLst/>
              <a:rect l="l" t="t" r="r" b="b"/>
              <a:pathLst>
                <a:path w="269" h="256">
                  <a:moveTo>
                    <a:pt x="16" y="256"/>
                  </a:moveTo>
                  <a:cubicBezTo>
                    <a:pt x="102" y="244"/>
                    <a:pt x="188" y="232"/>
                    <a:pt x="224" y="208"/>
                  </a:cubicBezTo>
                  <a:cubicBezTo>
                    <a:pt x="260" y="184"/>
                    <a:pt x="269" y="147"/>
                    <a:pt x="232" y="112"/>
                  </a:cubicBezTo>
                  <a:cubicBezTo>
                    <a:pt x="195" y="77"/>
                    <a:pt x="97" y="38"/>
                    <a:pt x="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146960" y="3603240"/>
            <a:ext cx="4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152960" y="2489040"/>
            <a:ext cx="3763800" cy="1522440"/>
            <a:chOff x="4152960" y="2489040"/>
            <a:chExt cx="3763800" cy="1522440"/>
          </a:xfrm>
        </p:grpSpPr>
        <p:sp>
          <p:nvSpPr>
            <p:cNvPr id="176" name=""/>
            <p:cNvSpPr/>
            <p:nvPr/>
          </p:nvSpPr>
          <p:spPr>
            <a:xfrm>
              <a:off x="4152960" y="3429000"/>
              <a:ext cx="431640" cy="216000"/>
            </a:xfrm>
            <a:custGeom>
              <a:avLst/>
              <a:gdLst/>
              <a:ahLst/>
              <a:rect l="l" t="t" r="r" b="b"/>
              <a:pathLst>
                <a:path w="272" h="136">
                  <a:moveTo>
                    <a:pt x="0" y="136"/>
                  </a:moveTo>
                  <a:cubicBezTo>
                    <a:pt x="49" y="126"/>
                    <a:pt x="94" y="124"/>
                    <a:pt x="136" y="96"/>
                  </a:cubicBezTo>
                  <a:cubicBezTo>
                    <a:pt x="159" y="28"/>
                    <a:pt x="230" y="42"/>
                    <a:pt x="272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64080" y="331380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42080" y="2489040"/>
              <a:ext cx="1765080" cy="1346400"/>
            </a:xfrm>
            <a:custGeom>
              <a:avLst/>
              <a:gdLst/>
              <a:ahLst/>
              <a:rect l="l" t="t" r="r" b="b"/>
              <a:pathLst>
                <a:path w="1112" h="848">
                  <a:moveTo>
                    <a:pt x="0" y="848"/>
                  </a:moveTo>
                  <a:cubicBezTo>
                    <a:pt x="50" y="823"/>
                    <a:pt x="86" y="814"/>
                    <a:pt x="120" y="768"/>
                  </a:cubicBezTo>
                  <a:cubicBezTo>
                    <a:pt x="123" y="760"/>
                    <a:pt x="122" y="750"/>
                    <a:pt x="128" y="744"/>
                  </a:cubicBezTo>
                  <a:cubicBezTo>
                    <a:pt x="193" y="687"/>
                    <a:pt x="273" y="650"/>
                    <a:pt x="344" y="600"/>
                  </a:cubicBezTo>
                  <a:cubicBezTo>
                    <a:pt x="366" y="585"/>
                    <a:pt x="390" y="572"/>
                    <a:pt x="408" y="552"/>
                  </a:cubicBezTo>
                  <a:cubicBezTo>
                    <a:pt x="427" y="531"/>
                    <a:pt x="441" y="505"/>
                    <a:pt x="464" y="488"/>
                  </a:cubicBezTo>
                  <a:cubicBezTo>
                    <a:pt x="498" y="462"/>
                    <a:pt x="541" y="449"/>
                    <a:pt x="576" y="424"/>
                  </a:cubicBezTo>
                  <a:cubicBezTo>
                    <a:pt x="621" y="392"/>
                    <a:pt x="655" y="345"/>
                    <a:pt x="704" y="320"/>
                  </a:cubicBezTo>
                  <a:cubicBezTo>
                    <a:pt x="774" y="285"/>
                    <a:pt x="857" y="247"/>
                    <a:pt x="912" y="192"/>
                  </a:cubicBezTo>
                  <a:cubicBezTo>
                    <a:pt x="960" y="144"/>
                    <a:pt x="1011" y="106"/>
                    <a:pt x="1056" y="56"/>
                  </a:cubicBezTo>
                  <a:cubicBezTo>
                    <a:pt x="1061" y="51"/>
                    <a:pt x="1102" y="0"/>
                    <a:pt x="1112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76840" y="2743200"/>
              <a:ext cx="2239920" cy="1268280"/>
            </a:xfrm>
            <a:custGeom>
              <a:avLst/>
              <a:gdLst/>
              <a:ahLst/>
              <a:rect l="l" t="t" r="r" b="b"/>
              <a:pathLst>
                <a:path w="1411" h="799">
                  <a:moveTo>
                    <a:pt x="0" y="0"/>
                  </a:moveTo>
                  <a:cubicBezTo>
                    <a:pt x="45" y="10"/>
                    <a:pt x="80" y="4"/>
                    <a:pt x="104" y="48"/>
                  </a:cubicBezTo>
                  <a:cubicBezTo>
                    <a:pt x="113" y="65"/>
                    <a:pt x="104" y="92"/>
                    <a:pt x="120" y="104"/>
                  </a:cubicBezTo>
                  <a:cubicBezTo>
                    <a:pt x="182" y="151"/>
                    <a:pt x="271" y="149"/>
                    <a:pt x="336" y="192"/>
                  </a:cubicBezTo>
                  <a:cubicBezTo>
                    <a:pt x="374" y="217"/>
                    <a:pt x="401" y="256"/>
                    <a:pt x="440" y="280"/>
                  </a:cubicBezTo>
                  <a:cubicBezTo>
                    <a:pt x="653" y="409"/>
                    <a:pt x="548" y="288"/>
                    <a:pt x="736" y="440"/>
                  </a:cubicBezTo>
                  <a:cubicBezTo>
                    <a:pt x="777" y="473"/>
                    <a:pt x="805" y="521"/>
                    <a:pt x="848" y="552"/>
                  </a:cubicBezTo>
                  <a:cubicBezTo>
                    <a:pt x="934" y="615"/>
                    <a:pt x="1082" y="662"/>
                    <a:pt x="1176" y="704"/>
                  </a:cubicBezTo>
                  <a:cubicBezTo>
                    <a:pt x="1214" y="721"/>
                    <a:pt x="1248" y="747"/>
                    <a:pt x="1288" y="760"/>
                  </a:cubicBezTo>
                  <a:cubicBezTo>
                    <a:pt x="1411" y="799"/>
                    <a:pt x="1351" y="743"/>
                    <a:pt x="1384" y="776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F16F-E165-4696-81BA-F0673C848D53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360" y="32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Rule of thumb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23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keep space uti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ween 50% and 80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zation =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# keys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# keys that f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60240" y="3708360"/>
            <a:ext cx="7772400" cy="2209680"/>
            <a:chOff x="660240" y="3708360"/>
            <a:chExt cx="7772400" cy="2209680"/>
          </a:xfrm>
        </p:grpSpPr>
        <p:sp>
          <p:nvSpPr>
            <p:cNvPr id="183" name=""/>
            <p:cNvSpPr/>
            <p:nvPr/>
          </p:nvSpPr>
          <p:spPr>
            <a:xfrm>
              <a:off x="660240" y="3708360"/>
              <a:ext cx="777240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If &lt; 50%, wasting space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marL="339480" indent="-339480">
                <a:spcBef>
                  <a:spcPts val="799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If &gt; 80%, overflows significant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epends on how good hash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function is &amp; on # keys/bucket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55960" y="4813200"/>
              <a:ext cx="471240" cy="330480"/>
            </a:xfrm>
            <a:custGeom>
              <a:avLst/>
              <a:gdLst/>
              <a:ahLst/>
              <a:rect l="l" t="t" r="r" b="b"/>
              <a:pathLst>
                <a:path w="297" h="208">
                  <a:moveTo>
                    <a:pt x="49" y="0"/>
                  </a:moveTo>
                  <a:cubicBezTo>
                    <a:pt x="24" y="54"/>
                    <a:pt x="0" y="109"/>
                    <a:pt x="41" y="144"/>
                  </a:cubicBezTo>
                  <a:cubicBezTo>
                    <a:pt x="82" y="179"/>
                    <a:pt x="256" y="197"/>
                    <a:pt x="297" y="20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D671-0F13-4CC2-93BC-9DD03D7B0C8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How do we cope with growth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7200" y="1828440"/>
            <a:ext cx="674820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flows and reorganiz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has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181764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665360" y="3157560"/>
            <a:ext cx="4614840" cy="1849320"/>
            <a:chOff x="1665360" y="3157560"/>
            <a:chExt cx="4614840" cy="1849320"/>
          </a:xfrm>
        </p:grpSpPr>
        <p:sp>
          <p:nvSpPr>
            <p:cNvPr id="189" name=""/>
            <p:cNvSpPr/>
            <p:nvPr/>
          </p:nvSpPr>
          <p:spPr>
            <a:xfrm>
              <a:off x="3254400" y="3406680"/>
              <a:ext cx="3025800" cy="13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xtensible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Linear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5800" y="3254400"/>
              <a:ext cx="304920" cy="17524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65360" y="3157560"/>
              <a:ext cx="1023840" cy="914400"/>
            </a:xfrm>
            <a:custGeom>
              <a:avLst/>
              <a:gdLst/>
              <a:ahLst/>
              <a:rect l="l" t="t" r="r" b="b"/>
              <a:pathLst>
                <a:path w="645" h="576">
                  <a:moveTo>
                    <a:pt x="0" y="0"/>
                  </a:moveTo>
                  <a:cubicBezTo>
                    <a:pt x="11" y="96"/>
                    <a:pt x="23" y="192"/>
                    <a:pt x="130" y="288"/>
                  </a:cubicBezTo>
                  <a:cubicBezTo>
                    <a:pt x="237" y="384"/>
                    <a:pt x="441" y="480"/>
                    <a:pt x="645" y="57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38CB-A182-450F-AE90-D08A01CD73D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Extensible hashing: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two ide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) U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s output by hash fun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(K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grows over time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3200400"/>
            <a:ext cx="2438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00110101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160" y="2895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 rot="5400000">
            <a:off x="3195720" y="3684600"/>
            <a:ext cx="304560" cy="838080"/>
          </a:xfrm>
          <a:custGeom>
            <a:avLst/>
            <a:gdLst>
              <a:gd name="textAreaLeft" fmla="*/ 0 w 304560"/>
              <a:gd name="textAreaRight" fmla="*/ 109800 w 3045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D146-0F4F-47DF-9199-2F692CF388D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52320" y="1120680"/>
            <a:ext cx="77724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b) Use direc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(K)[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to buc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395520" y="2035080"/>
            <a:ext cx="12956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395520" y="27972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3395520" y="3330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2557440" y="25686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843440" y="287316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3935520" y="2233080"/>
            <a:ext cx="263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ts val="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ts val="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ts val="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3935520" y="3474360"/>
            <a:ext cx="263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ts val="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ts val="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ts val="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D734-EFBC-4D7D-B36B-A62A8701858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9760" y="293400"/>
            <a:ext cx="83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Example: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h(k) is 4 bits; 2 keys/buck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55120" y="1881360"/>
            <a:ext cx="78444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1230480" y="2774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1230480" y="231768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1230480" y="20131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3059280" y="186048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3059280" y="15559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059280" y="3232080"/>
            <a:ext cx="914400" cy="1218960"/>
            <a:chOff x="3059280" y="3232080"/>
            <a:chExt cx="914400" cy="1218960"/>
          </a:xfrm>
        </p:grpSpPr>
        <p:sp>
          <p:nvSpPr>
            <p:cNvPr id="214" name=""/>
            <p:cNvSpPr/>
            <p:nvPr/>
          </p:nvSpPr>
          <p:spPr>
            <a:xfrm>
              <a:off x="3059280" y="35366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59280" y="3232080"/>
              <a:ext cx="3045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1230480" y="2774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3059280" y="2317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3059280" y="3994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3081960" y="18975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3047040" y="3535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3047040" y="3993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916280" y="1936440"/>
            <a:ext cx="9903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1916280" y="2927520"/>
            <a:ext cx="9903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154080" y="4919760"/>
            <a:ext cx="22971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nsert 10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243520" y="3970800"/>
            <a:ext cx="1752120" cy="2026440"/>
            <a:chOff x="2243520" y="3970800"/>
            <a:chExt cx="1752120" cy="2026440"/>
          </a:xfrm>
        </p:grpSpPr>
        <p:grpSp>
          <p:nvGrpSpPr>
            <p:cNvPr id="226" name=""/>
            <p:cNvGrpSpPr/>
            <p:nvPr/>
          </p:nvGrpSpPr>
          <p:grpSpPr>
            <a:xfrm>
              <a:off x="3081240" y="4778280"/>
              <a:ext cx="914400" cy="1218960"/>
              <a:chOff x="3081240" y="4778280"/>
              <a:chExt cx="914400" cy="1218960"/>
            </a:xfrm>
          </p:grpSpPr>
          <p:sp>
            <p:nvSpPr>
              <p:cNvPr id="227" name=""/>
              <p:cNvSpPr/>
              <p:nvPr/>
            </p:nvSpPr>
            <p:spPr>
              <a:xfrm>
                <a:off x="3081240" y="5082840"/>
                <a:ext cx="914400" cy="91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081240" y="477828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3081240" y="5540400"/>
              <a:ext cx="91440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069000" y="508212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110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14640" y="4170240"/>
              <a:ext cx="882720" cy="139680"/>
            </a:xfrm>
            <a:custGeom>
              <a:avLst/>
              <a:gdLst/>
              <a:ahLst/>
              <a:rect l="l" t="t" r="r" b="b"/>
              <a:pathLst>
                <a:path w="556" h="88">
                  <a:moveTo>
                    <a:pt x="0" y="88"/>
                  </a:moveTo>
                  <a:cubicBezTo>
                    <a:pt x="102" y="83"/>
                    <a:pt x="150" y="73"/>
                    <a:pt x="240" y="54"/>
                  </a:cubicBezTo>
                  <a:cubicBezTo>
                    <a:pt x="320" y="0"/>
                    <a:pt x="469" y="6"/>
                    <a:pt x="556" y="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43520" y="397080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10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11200" y="1228680"/>
            <a:ext cx="7447320" cy="3963960"/>
            <a:chOff x="511200" y="1228680"/>
            <a:chExt cx="7447320" cy="3963960"/>
          </a:xfrm>
        </p:grpSpPr>
        <p:sp>
          <p:nvSpPr>
            <p:cNvPr id="234" name=""/>
            <p:cNvSpPr/>
            <p:nvPr/>
          </p:nvSpPr>
          <p:spPr>
            <a:xfrm>
              <a:off x="5767560" y="4609080"/>
              <a:ext cx="21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New directory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095880" y="1676520"/>
              <a:ext cx="1295640" cy="236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95880" y="13716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85040" y="1742040"/>
              <a:ext cx="473400" cy="224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4016160" y="1938240"/>
              <a:ext cx="2330280" cy="763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flipV="1">
              <a:off x="4005360" y="2122200"/>
              <a:ext cx="2341440" cy="44604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4016160" y="3124080"/>
              <a:ext cx="2307960" cy="54468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4038120" y="3776760"/>
              <a:ext cx="2274840" cy="141588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97560" y="1228680"/>
              <a:ext cx="78408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33cc"/>
                  </a:solidFill>
                  <a:latin typeface="Tahoma"/>
                </a:rPr>
                <a:t>i</a:t>
              </a:r>
              <a:r>
                <a:rPr b="0" lang="en-US" sz="2800" spc="-1" strike="noStrike">
                  <a:solidFill>
                    <a:srgbClr val="3333cc"/>
                  </a:solidFill>
                  <a:latin typeface="Tahoma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05280" y="3287880"/>
              <a:ext cx="423720" cy="228600"/>
            </a:xfrm>
            <a:custGeom>
              <a:avLst/>
              <a:gdLst/>
              <a:ahLst/>
              <a:rect l="l" t="t" r="r" b="b"/>
              <a:pathLst>
                <a:path w="267" h="144">
                  <a:moveTo>
                    <a:pt x="0" y="144"/>
                  </a:moveTo>
                  <a:cubicBezTo>
                    <a:pt x="40" y="102"/>
                    <a:pt x="101" y="63"/>
                    <a:pt x="157" y="48"/>
                  </a:cubicBezTo>
                  <a:cubicBezTo>
                    <a:pt x="200" y="16"/>
                    <a:pt x="167" y="35"/>
                    <a:pt x="212" y="20"/>
                  </a:cubicBezTo>
                  <a:cubicBezTo>
                    <a:pt x="224" y="16"/>
                    <a:pt x="235" y="11"/>
                    <a:pt x="246" y="7"/>
                  </a:cubicBezTo>
                  <a:cubicBezTo>
                    <a:pt x="253" y="4"/>
                    <a:pt x="267" y="0"/>
                    <a:pt x="267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038400" y="4843440"/>
              <a:ext cx="424080" cy="228600"/>
            </a:xfrm>
            <a:custGeom>
              <a:avLst/>
              <a:gdLst/>
              <a:ahLst/>
              <a:rect l="l" t="t" r="r" b="b"/>
              <a:pathLst>
                <a:path w="267" h="144">
                  <a:moveTo>
                    <a:pt x="0" y="144"/>
                  </a:moveTo>
                  <a:cubicBezTo>
                    <a:pt x="40" y="102"/>
                    <a:pt x="101" y="63"/>
                    <a:pt x="157" y="48"/>
                  </a:cubicBezTo>
                  <a:cubicBezTo>
                    <a:pt x="200" y="16"/>
                    <a:pt x="167" y="35"/>
                    <a:pt x="212" y="20"/>
                  </a:cubicBezTo>
                  <a:cubicBezTo>
                    <a:pt x="224" y="16"/>
                    <a:pt x="235" y="11"/>
                    <a:pt x="246" y="7"/>
                  </a:cubicBezTo>
                  <a:cubicBezTo>
                    <a:pt x="253" y="4"/>
                    <a:pt x="267" y="0"/>
                    <a:pt x="267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82920" y="4680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393720" y="3145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95880" y="2895480"/>
              <a:ext cx="12956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95880" y="3505320"/>
              <a:ext cx="12956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95880" y="2286000"/>
              <a:ext cx="12956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957240" y="2111400"/>
              <a:ext cx="1546200" cy="1077840"/>
            </a:xfrm>
            <a:custGeom>
              <a:avLst/>
              <a:gdLst/>
              <a:ahLst/>
              <a:rect l="l" t="t" r="r" b="b"/>
              <a:pathLst>
                <a:path w="974" h="679">
                  <a:moveTo>
                    <a:pt x="0" y="679"/>
                  </a:moveTo>
                  <a:cubicBezTo>
                    <a:pt x="106" y="609"/>
                    <a:pt x="200" y="526"/>
                    <a:pt x="309" y="460"/>
                  </a:cubicBezTo>
                  <a:cubicBezTo>
                    <a:pt x="404" y="403"/>
                    <a:pt x="491" y="342"/>
                    <a:pt x="583" y="281"/>
                  </a:cubicBezTo>
                  <a:cubicBezTo>
                    <a:pt x="608" y="264"/>
                    <a:pt x="636" y="252"/>
                    <a:pt x="659" y="233"/>
                  </a:cubicBezTo>
                  <a:cubicBezTo>
                    <a:pt x="716" y="186"/>
                    <a:pt x="779" y="148"/>
                    <a:pt x="837" y="103"/>
                  </a:cubicBezTo>
                  <a:cubicBezTo>
                    <a:pt x="884" y="66"/>
                    <a:pt x="843" y="83"/>
                    <a:pt x="885" y="69"/>
                  </a:cubicBezTo>
                  <a:cubicBezTo>
                    <a:pt x="913" y="46"/>
                    <a:pt x="948" y="26"/>
                    <a:pt x="974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1200" y="1839960"/>
              <a:ext cx="2068560" cy="1295280"/>
            </a:xfrm>
            <a:custGeom>
              <a:avLst/>
              <a:gdLst/>
              <a:ahLst/>
              <a:rect l="l" t="t" r="r" b="b"/>
              <a:pathLst>
                <a:path w="1303" h="816">
                  <a:moveTo>
                    <a:pt x="0" y="0"/>
                  </a:moveTo>
                  <a:cubicBezTo>
                    <a:pt x="131" y="131"/>
                    <a:pt x="275" y="271"/>
                    <a:pt x="432" y="370"/>
                  </a:cubicBezTo>
                  <a:cubicBezTo>
                    <a:pt x="588" y="469"/>
                    <a:pt x="747" y="562"/>
                    <a:pt x="905" y="658"/>
                  </a:cubicBezTo>
                  <a:cubicBezTo>
                    <a:pt x="931" y="673"/>
                    <a:pt x="961" y="679"/>
                    <a:pt x="988" y="692"/>
                  </a:cubicBezTo>
                  <a:cubicBezTo>
                    <a:pt x="1057" y="724"/>
                    <a:pt x="1120" y="765"/>
                    <a:pt x="1193" y="788"/>
                  </a:cubicBezTo>
                  <a:cubicBezTo>
                    <a:pt x="1220" y="797"/>
                    <a:pt x="1248" y="802"/>
                    <a:pt x="1276" y="809"/>
                  </a:cubicBezTo>
                  <a:cubicBezTo>
                    <a:pt x="1285" y="811"/>
                    <a:pt x="1303" y="816"/>
                    <a:pt x="1303" y="816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49C7-2F0A-4E81-8AD9-DE161535AC1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4441680" y="23623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4441680" y="2057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4441680" y="2819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4464360" y="23994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441680" y="3429000"/>
            <a:ext cx="914400" cy="1218960"/>
            <a:chOff x="4441680" y="3429000"/>
            <a:chExt cx="914400" cy="1218960"/>
          </a:xfrm>
        </p:grpSpPr>
        <p:sp>
          <p:nvSpPr>
            <p:cNvPr id="257" name=""/>
            <p:cNvSpPr/>
            <p:nvPr/>
          </p:nvSpPr>
          <p:spPr>
            <a:xfrm>
              <a:off x="4441680" y="373356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441680" y="3429000"/>
              <a:ext cx="3045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4441680" y="4191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4429440" y="37328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4429440" y="41900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441680" y="4800600"/>
            <a:ext cx="914400" cy="1218960"/>
            <a:chOff x="4441680" y="4800600"/>
            <a:chExt cx="914400" cy="1218960"/>
          </a:xfrm>
        </p:grpSpPr>
        <p:sp>
          <p:nvSpPr>
            <p:cNvPr id="263" name=""/>
            <p:cNvSpPr/>
            <p:nvPr/>
          </p:nvSpPr>
          <p:spPr>
            <a:xfrm>
              <a:off x="4441680" y="510516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41680" y="4800600"/>
              <a:ext cx="3045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4441680" y="5562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4429440" y="51044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1631520" y="4485960"/>
            <a:ext cx="1110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01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1844640" y="1589760"/>
            <a:ext cx="47340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2384280" y="1523880"/>
            <a:ext cx="99072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2384280" y="1219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2384280" y="2666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2384280" y="3276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2384280" y="2057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>
            <a:off x="1803960" y="114192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2917800" y="182880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3222720" y="2438280"/>
            <a:ext cx="1066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3222720" y="29718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3222720" y="3429000"/>
            <a:ext cx="10666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195480" y="261000"/>
            <a:ext cx="293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Example continu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4462920" y="28184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01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428000" y="479520"/>
            <a:ext cx="1782000" cy="2687400"/>
            <a:chOff x="4428000" y="479520"/>
            <a:chExt cx="1782000" cy="2687400"/>
          </a:xfrm>
        </p:grpSpPr>
        <p:sp>
          <p:nvSpPr>
            <p:cNvPr id="282" name=""/>
            <p:cNvSpPr/>
            <p:nvPr/>
          </p:nvSpPr>
          <p:spPr>
            <a:xfrm>
              <a:off x="4440240" y="78408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440240" y="479520"/>
              <a:ext cx="3049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40240" y="1241280"/>
              <a:ext cx="9144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462920" y="82116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000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84520" y="2949480"/>
              <a:ext cx="773280" cy="217440"/>
            </a:xfrm>
            <a:custGeom>
              <a:avLst/>
              <a:gdLst/>
              <a:ahLst/>
              <a:rect l="l" t="t" r="r" b="b"/>
              <a:pathLst>
                <a:path w="487" h="137">
                  <a:moveTo>
                    <a:pt x="0" y="137"/>
                  </a:moveTo>
                  <a:cubicBezTo>
                    <a:pt x="70" y="132"/>
                    <a:pt x="66" y="136"/>
                    <a:pt x="117" y="124"/>
                  </a:cubicBezTo>
                  <a:cubicBezTo>
                    <a:pt x="166" y="113"/>
                    <a:pt x="212" y="91"/>
                    <a:pt x="261" y="83"/>
                  </a:cubicBezTo>
                  <a:cubicBezTo>
                    <a:pt x="304" y="68"/>
                    <a:pt x="346" y="50"/>
                    <a:pt x="391" y="41"/>
                  </a:cubicBezTo>
                  <a:cubicBezTo>
                    <a:pt x="409" y="32"/>
                    <a:pt x="428" y="23"/>
                    <a:pt x="446" y="14"/>
                  </a:cubicBezTo>
                  <a:cubicBezTo>
                    <a:pt x="459" y="8"/>
                    <a:pt x="487" y="0"/>
                    <a:pt x="487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495680" y="2492280"/>
              <a:ext cx="773280" cy="217440"/>
            </a:xfrm>
            <a:custGeom>
              <a:avLst/>
              <a:gdLst/>
              <a:ahLst/>
              <a:rect l="l" t="t" r="r" b="b"/>
              <a:pathLst>
                <a:path w="487" h="137">
                  <a:moveTo>
                    <a:pt x="0" y="137"/>
                  </a:moveTo>
                  <a:cubicBezTo>
                    <a:pt x="70" y="132"/>
                    <a:pt x="66" y="136"/>
                    <a:pt x="117" y="124"/>
                  </a:cubicBezTo>
                  <a:cubicBezTo>
                    <a:pt x="166" y="113"/>
                    <a:pt x="212" y="91"/>
                    <a:pt x="261" y="83"/>
                  </a:cubicBezTo>
                  <a:cubicBezTo>
                    <a:pt x="304" y="68"/>
                    <a:pt x="346" y="50"/>
                    <a:pt x="391" y="41"/>
                  </a:cubicBezTo>
                  <a:cubicBezTo>
                    <a:pt x="409" y="32"/>
                    <a:pt x="428" y="23"/>
                    <a:pt x="446" y="14"/>
                  </a:cubicBezTo>
                  <a:cubicBezTo>
                    <a:pt x="459" y="8"/>
                    <a:pt x="487" y="0"/>
                    <a:pt x="487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334480" y="238500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011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428000" y="124020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000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2971800" y="400680"/>
            <a:ext cx="2105280" cy="2027880"/>
            <a:chOff x="2971800" y="400680"/>
            <a:chExt cx="2105280" cy="2027880"/>
          </a:xfrm>
        </p:grpSpPr>
        <p:sp>
          <p:nvSpPr>
            <p:cNvPr id="291" name=""/>
            <p:cNvSpPr/>
            <p:nvPr/>
          </p:nvSpPr>
          <p:spPr>
            <a:xfrm>
              <a:off x="3722760" y="2144880"/>
              <a:ext cx="293760" cy="174600"/>
            </a:xfrm>
            <a:custGeom>
              <a:avLst/>
              <a:gdLst/>
              <a:ahLst/>
              <a:rect l="l" t="t" r="r" b="b"/>
              <a:pathLst>
                <a:path w="185" h="110">
                  <a:moveTo>
                    <a:pt x="0" y="110"/>
                  </a:moveTo>
                  <a:cubicBezTo>
                    <a:pt x="47" y="94"/>
                    <a:pt x="73" y="49"/>
                    <a:pt x="117" y="27"/>
                  </a:cubicBezTo>
                  <a:cubicBezTo>
                    <a:pt x="132" y="19"/>
                    <a:pt x="149" y="14"/>
                    <a:pt x="165" y="7"/>
                  </a:cubicBezTo>
                  <a:cubicBezTo>
                    <a:pt x="172" y="4"/>
                    <a:pt x="185" y="0"/>
                    <a:pt x="185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09880" y="2144880"/>
              <a:ext cx="142920" cy="250560"/>
            </a:xfrm>
            <a:custGeom>
              <a:avLst/>
              <a:gdLst/>
              <a:ahLst/>
              <a:rect l="l" t="t" r="r" b="b"/>
              <a:pathLst>
                <a:path w="90" h="158">
                  <a:moveTo>
                    <a:pt x="0" y="0"/>
                  </a:moveTo>
                  <a:cubicBezTo>
                    <a:pt x="12" y="36"/>
                    <a:pt x="33" y="55"/>
                    <a:pt x="55" y="82"/>
                  </a:cubicBezTo>
                  <a:cubicBezTo>
                    <a:pt x="65" y="95"/>
                    <a:pt x="82" y="123"/>
                    <a:pt x="82" y="123"/>
                  </a:cubicBezTo>
                  <a:cubicBezTo>
                    <a:pt x="90" y="153"/>
                    <a:pt x="89" y="141"/>
                    <a:pt x="89" y="158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2971800" y="968040"/>
              <a:ext cx="1436760" cy="79524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65720" y="2166840"/>
              <a:ext cx="423720" cy="184320"/>
            </a:xfrm>
            <a:custGeom>
              <a:avLst/>
              <a:gdLst/>
              <a:ahLst/>
              <a:rect l="l" t="t" r="r" b="b"/>
              <a:pathLst>
                <a:path w="267" h="116">
                  <a:moveTo>
                    <a:pt x="0" y="116"/>
                  </a:moveTo>
                  <a:cubicBezTo>
                    <a:pt x="26" y="103"/>
                    <a:pt x="48" y="85"/>
                    <a:pt x="75" y="75"/>
                  </a:cubicBezTo>
                  <a:cubicBezTo>
                    <a:pt x="120" y="41"/>
                    <a:pt x="164" y="27"/>
                    <a:pt x="219" y="13"/>
                  </a:cubicBezTo>
                  <a:cubicBezTo>
                    <a:pt x="228" y="11"/>
                    <a:pt x="238" y="8"/>
                    <a:pt x="247" y="6"/>
                  </a:cubicBezTo>
                  <a:cubicBezTo>
                    <a:pt x="254" y="4"/>
                    <a:pt x="267" y="0"/>
                    <a:pt x="267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722480" y="1968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17920" y="400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2DC8-E3A6-4D22-8801-631D356AFD26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68200" y="1699200"/>
            <a:ext cx="47340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>
            <a:off x="1708200" y="1633680"/>
            <a:ext cx="990720" cy="23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"/>
          <p:cNvSpPr/>
          <p:nvPr/>
        </p:nvSpPr>
        <p:spPr>
          <a:xfrm>
            <a:off x="1708200" y="132876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1708200" y="2776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"/>
          <p:cNvSpPr/>
          <p:nvPr/>
        </p:nvSpPr>
        <p:spPr>
          <a:xfrm>
            <a:off x="1708200" y="3386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"/>
          <p:cNvSpPr/>
          <p:nvPr/>
        </p:nvSpPr>
        <p:spPr>
          <a:xfrm>
            <a:off x="1708200" y="216684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1127880" y="125136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775680" y="4016880"/>
            <a:ext cx="1231200" cy="916920"/>
            <a:chOff x="3775680" y="4016880"/>
            <a:chExt cx="1231200" cy="916920"/>
          </a:xfrm>
        </p:grpSpPr>
        <p:sp>
          <p:nvSpPr>
            <p:cNvPr id="305" name=""/>
            <p:cNvSpPr/>
            <p:nvPr/>
          </p:nvSpPr>
          <p:spPr>
            <a:xfrm>
              <a:off x="3787920" y="401796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702320" y="401796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787920" y="44751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775680" y="401688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0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775680" y="447408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753360" y="5213880"/>
            <a:ext cx="1231560" cy="1007640"/>
            <a:chOff x="3753360" y="5213880"/>
            <a:chExt cx="1231560" cy="1007640"/>
          </a:xfrm>
        </p:grpSpPr>
        <p:sp>
          <p:nvSpPr>
            <p:cNvPr id="311" name=""/>
            <p:cNvSpPr/>
            <p:nvPr/>
          </p:nvSpPr>
          <p:spPr>
            <a:xfrm>
              <a:off x="3765600" y="521496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80000" y="521496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765600" y="56721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753360" y="521388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0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096080" y="5580360"/>
              <a:ext cx="1839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3776760" y="181764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4691160" y="181764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776760" y="227484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"/>
          <p:cNvSpPr/>
          <p:nvPr/>
        </p:nvSpPr>
        <p:spPr>
          <a:xfrm>
            <a:off x="3764520" y="18165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3776760" y="75096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4691160" y="75096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"/>
          <p:cNvSpPr/>
          <p:nvPr/>
        </p:nvSpPr>
        <p:spPr>
          <a:xfrm>
            <a:off x="3776760" y="12081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"/>
          <p:cNvSpPr/>
          <p:nvPr/>
        </p:nvSpPr>
        <p:spPr>
          <a:xfrm>
            <a:off x="3764520" y="7498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3764520" y="12070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"/>
          <p:cNvSpPr/>
          <p:nvPr/>
        </p:nvSpPr>
        <p:spPr>
          <a:xfrm>
            <a:off x="857160" y="4676040"/>
            <a:ext cx="1110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0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"/>
          <p:cNvSpPr/>
          <p:nvPr/>
        </p:nvSpPr>
        <p:spPr>
          <a:xfrm>
            <a:off x="195480" y="261000"/>
            <a:ext cx="293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Example continu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2471760" y="826920"/>
            <a:ext cx="1306440" cy="108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492280" y="1893960"/>
            <a:ext cx="1285920" cy="54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2492280" y="3070080"/>
            <a:ext cx="1274760" cy="97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2460600" y="3679920"/>
            <a:ext cx="1262160" cy="164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003840" y="2927880"/>
            <a:ext cx="1971360" cy="1841040"/>
            <a:chOff x="3003840" y="2927880"/>
            <a:chExt cx="1971360" cy="1841040"/>
          </a:xfrm>
        </p:grpSpPr>
        <p:sp>
          <p:nvSpPr>
            <p:cNvPr id="332" name=""/>
            <p:cNvSpPr/>
            <p:nvPr/>
          </p:nvSpPr>
          <p:spPr>
            <a:xfrm>
              <a:off x="3755880" y="292896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70280" y="292896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778560" y="292788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100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43640" y="338508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100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55880" y="3386160"/>
              <a:ext cx="91440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862440" y="4191120"/>
              <a:ext cx="784080" cy="131760"/>
            </a:xfrm>
            <a:custGeom>
              <a:avLst/>
              <a:gdLst/>
              <a:ahLst/>
              <a:rect l="l" t="t" r="r" b="b"/>
              <a:pathLst>
                <a:path w="494" h="83">
                  <a:moveTo>
                    <a:pt x="0" y="83"/>
                  </a:moveTo>
                  <a:cubicBezTo>
                    <a:pt x="85" y="62"/>
                    <a:pt x="235" y="55"/>
                    <a:pt x="330" y="48"/>
                  </a:cubicBezTo>
                  <a:cubicBezTo>
                    <a:pt x="350" y="44"/>
                    <a:pt x="371" y="39"/>
                    <a:pt x="391" y="35"/>
                  </a:cubicBezTo>
                  <a:cubicBezTo>
                    <a:pt x="399" y="33"/>
                    <a:pt x="405" y="25"/>
                    <a:pt x="412" y="21"/>
                  </a:cubicBezTo>
                  <a:cubicBezTo>
                    <a:pt x="436" y="9"/>
                    <a:pt x="467" y="0"/>
                    <a:pt x="494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40120" y="4637160"/>
              <a:ext cx="784440" cy="131760"/>
            </a:xfrm>
            <a:custGeom>
              <a:avLst/>
              <a:gdLst/>
              <a:ahLst/>
              <a:rect l="l" t="t" r="r" b="b"/>
              <a:pathLst>
                <a:path w="494" h="83">
                  <a:moveTo>
                    <a:pt x="0" y="83"/>
                  </a:moveTo>
                  <a:cubicBezTo>
                    <a:pt x="85" y="62"/>
                    <a:pt x="235" y="55"/>
                    <a:pt x="330" y="48"/>
                  </a:cubicBezTo>
                  <a:cubicBezTo>
                    <a:pt x="350" y="44"/>
                    <a:pt x="371" y="39"/>
                    <a:pt x="391" y="35"/>
                  </a:cubicBezTo>
                  <a:cubicBezTo>
                    <a:pt x="399" y="33"/>
                    <a:pt x="405" y="25"/>
                    <a:pt x="412" y="21"/>
                  </a:cubicBezTo>
                  <a:cubicBezTo>
                    <a:pt x="436" y="9"/>
                    <a:pt x="467" y="0"/>
                    <a:pt x="494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03840" y="399456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10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00160" y="456120"/>
            <a:ext cx="7205040" cy="5454000"/>
            <a:chOff x="1100160" y="456120"/>
            <a:chExt cx="7205040" cy="5454000"/>
          </a:xfrm>
        </p:grpSpPr>
        <p:sp>
          <p:nvSpPr>
            <p:cNvPr id="341" name=""/>
            <p:cNvSpPr/>
            <p:nvPr/>
          </p:nvSpPr>
          <p:spPr>
            <a:xfrm>
              <a:off x="7685640" y="890280"/>
              <a:ext cx="619560" cy="48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00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00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01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01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10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11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11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00800" y="838080"/>
              <a:ext cx="1219320" cy="495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400800" y="533520"/>
              <a:ext cx="38088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400800" y="1371600"/>
              <a:ext cx="12193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00800" y="1905120"/>
              <a:ext cx="12193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400800" y="2514600"/>
              <a:ext cx="12193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400800" y="3200400"/>
              <a:ext cx="12193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00800" y="3809880"/>
              <a:ext cx="12193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400800" y="4495680"/>
              <a:ext cx="12193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400800" y="5105520"/>
              <a:ext cx="12193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4800240" y="1143000"/>
              <a:ext cx="198108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flipV="1">
              <a:off x="4876560" y="1371240"/>
              <a:ext cx="1904760" cy="3049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4756320" y="2209680"/>
              <a:ext cx="2025360" cy="320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flipV="1">
              <a:off x="4789440" y="2373480"/>
              <a:ext cx="2068560" cy="5220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4745160" y="3462120"/>
              <a:ext cx="1960560" cy="428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4768560" y="4191120"/>
              <a:ext cx="2089080" cy="4460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4735440" y="4724280"/>
              <a:ext cx="2122560" cy="9907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4735440" y="5410080"/>
              <a:ext cx="2122560" cy="5000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939280" y="456120"/>
              <a:ext cx="51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Tahoma"/>
                </a:rPr>
                <a:t>i</a:t>
              </a: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109520" y="2612880"/>
              <a:ext cx="2189160" cy="773280"/>
            </a:xfrm>
            <a:custGeom>
              <a:avLst/>
              <a:gdLst/>
              <a:ahLst/>
              <a:rect l="l" t="t" r="r" b="b"/>
              <a:pathLst>
                <a:path w="1379" h="487">
                  <a:moveTo>
                    <a:pt x="0" y="487"/>
                  </a:moveTo>
                  <a:cubicBezTo>
                    <a:pt x="52" y="449"/>
                    <a:pt x="109" y="412"/>
                    <a:pt x="158" y="370"/>
                  </a:cubicBezTo>
                  <a:cubicBezTo>
                    <a:pt x="178" y="353"/>
                    <a:pt x="190" y="326"/>
                    <a:pt x="213" y="315"/>
                  </a:cubicBezTo>
                  <a:cubicBezTo>
                    <a:pt x="410" y="219"/>
                    <a:pt x="585" y="153"/>
                    <a:pt x="803" y="116"/>
                  </a:cubicBezTo>
                  <a:cubicBezTo>
                    <a:pt x="862" y="106"/>
                    <a:pt x="922" y="105"/>
                    <a:pt x="981" y="96"/>
                  </a:cubicBezTo>
                  <a:cubicBezTo>
                    <a:pt x="1060" y="84"/>
                    <a:pt x="1136" y="64"/>
                    <a:pt x="1214" y="48"/>
                  </a:cubicBezTo>
                  <a:cubicBezTo>
                    <a:pt x="1260" y="38"/>
                    <a:pt x="1343" y="33"/>
                    <a:pt x="1379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100160" y="1981080"/>
              <a:ext cx="2328840" cy="1687680"/>
            </a:xfrm>
            <a:custGeom>
              <a:avLst/>
              <a:gdLst/>
              <a:ahLst/>
              <a:rect l="l" t="t" r="r" b="b"/>
              <a:pathLst>
                <a:path w="1666" h="1159">
                  <a:moveTo>
                    <a:pt x="0" y="0"/>
                  </a:moveTo>
                  <a:cubicBezTo>
                    <a:pt x="110" y="147"/>
                    <a:pt x="315" y="268"/>
                    <a:pt x="459" y="384"/>
                  </a:cubicBezTo>
                  <a:cubicBezTo>
                    <a:pt x="699" y="577"/>
                    <a:pt x="911" y="741"/>
                    <a:pt x="1172" y="912"/>
                  </a:cubicBezTo>
                  <a:cubicBezTo>
                    <a:pt x="1298" y="995"/>
                    <a:pt x="1321" y="1015"/>
                    <a:pt x="1460" y="1077"/>
                  </a:cubicBezTo>
                  <a:cubicBezTo>
                    <a:pt x="1528" y="1107"/>
                    <a:pt x="1592" y="1159"/>
                    <a:pt x="1666" y="1159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713120" y="4114800"/>
              <a:ext cx="370080" cy="217440"/>
            </a:xfrm>
            <a:custGeom>
              <a:avLst/>
              <a:gdLst/>
              <a:ahLst/>
              <a:rect l="l" t="t" r="r" b="b"/>
              <a:pathLst>
                <a:path w="233" h="137">
                  <a:moveTo>
                    <a:pt x="0" y="137"/>
                  </a:moveTo>
                  <a:cubicBezTo>
                    <a:pt x="23" y="72"/>
                    <a:pt x="100" y="32"/>
                    <a:pt x="165" y="21"/>
                  </a:cubicBezTo>
                  <a:cubicBezTo>
                    <a:pt x="212" y="4"/>
                    <a:pt x="153" y="24"/>
                    <a:pt x="213" y="7"/>
                  </a:cubicBezTo>
                  <a:cubicBezTo>
                    <a:pt x="220" y="5"/>
                    <a:pt x="233" y="0"/>
                    <a:pt x="233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635360" y="28515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25960" y="3929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A1FA-4A25-4465-AB20-4DA2A69533E1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xtensible hashing: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dele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382760" y="1915920"/>
            <a:ext cx="6826320" cy="26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merging of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rge block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and cut directory if poss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Reverse insert procedur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"/>
          <p:cNvSpPr/>
          <p:nvPr/>
        </p:nvSpPr>
        <p:spPr>
          <a:xfrm>
            <a:off x="1230480" y="1905120"/>
            <a:ext cx="228600" cy="2819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DFF0-5791-41F8-BF7A-771411AFD0D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Deletion example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thru insert example in revers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829D-FE8E-440A-A196-0819BC4F226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h(ke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685800"/>
            <a:ext cx="2133720" cy="762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ash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5334120" y="2514600"/>
            <a:ext cx="12189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5334120" y="3048120"/>
            <a:ext cx="12189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key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3581280"/>
            <a:ext cx="12189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4114800"/>
            <a:ext cx="12189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4648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4648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5796720" y="4793400"/>
            <a:ext cx="2494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ts val="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ts val="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ts val="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629400" y="4343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6932520" y="3769200"/>
            <a:ext cx="168804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ypically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k blo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3429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419360" y="31240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ABF6-DD8C-4934-AB76-96A1BB487D2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96520" y="253800"/>
            <a:ext cx="80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ahoma"/>
              </a:rPr>
              <a:t>Note: Still need overflow chai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55320" y="1460520"/>
            <a:ext cx="83566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any records with duplicate ke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335320" y="3435480"/>
            <a:ext cx="914400" cy="1218960"/>
            <a:chOff x="2335320" y="3435480"/>
            <a:chExt cx="914400" cy="1218960"/>
          </a:xfrm>
        </p:grpSpPr>
        <p:sp>
          <p:nvSpPr>
            <p:cNvPr id="373" name=""/>
            <p:cNvSpPr/>
            <p:nvPr/>
          </p:nvSpPr>
          <p:spPr>
            <a:xfrm>
              <a:off x="2335320" y="37400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335320" y="3435480"/>
              <a:ext cx="3045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2335320" y="419724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"/>
          <p:cNvSpPr/>
          <p:nvPr/>
        </p:nvSpPr>
        <p:spPr>
          <a:xfrm>
            <a:off x="2323080" y="37389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"/>
          <p:cNvSpPr/>
          <p:nvPr/>
        </p:nvSpPr>
        <p:spPr>
          <a:xfrm>
            <a:off x="2323080" y="41961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"/>
          <p:cNvSpPr/>
          <p:nvPr/>
        </p:nvSpPr>
        <p:spPr>
          <a:xfrm>
            <a:off x="1192320" y="3130560"/>
            <a:ext cx="9903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6551640" y="3257640"/>
            <a:ext cx="914400" cy="1218960"/>
            <a:chOff x="6551640" y="3257640"/>
            <a:chExt cx="914400" cy="1218960"/>
          </a:xfrm>
        </p:grpSpPr>
        <p:sp>
          <p:nvSpPr>
            <p:cNvPr id="380" name=""/>
            <p:cNvSpPr/>
            <p:nvPr/>
          </p:nvSpPr>
          <p:spPr>
            <a:xfrm>
              <a:off x="6551640" y="35622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551640" y="3257640"/>
              <a:ext cx="3045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6551640" y="4019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"/>
          <p:cNvSpPr/>
          <p:nvPr/>
        </p:nvSpPr>
        <p:spPr>
          <a:xfrm>
            <a:off x="5408640" y="295272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6573960" y="4803840"/>
            <a:ext cx="914400" cy="1218960"/>
            <a:chOff x="6573960" y="4803840"/>
            <a:chExt cx="914400" cy="1218960"/>
          </a:xfrm>
        </p:grpSpPr>
        <p:sp>
          <p:nvSpPr>
            <p:cNvPr id="385" name=""/>
            <p:cNvSpPr/>
            <p:nvPr/>
          </p:nvSpPr>
          <p:spPr>
            <a:xfrm>
              <a:off x="6573960" y="51084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573960" y="4803840"/>
              <a:ext cx="3045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6573960" y="556560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"/>
          <p:cNvSpPr/>
          <p:nvPr/>
        </p:nvSpPr>
        <p:spPr>
          <a:xfrm>
            <a:off x="6561720" y="51073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656720" y="226836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nsert 1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"/>
          <p:cNvSpPr/>
          <p:nvPr/>
        </p:nvSpPr>
        <p:spPr>
          <a:xfrm>
            <a:off x="6574320" y="55645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"/>
          <p:cNvSpPr/>
          <p:nvPr/>
        </p:nvSpPr>
        <p:spPr>
          <a:xfrm>
            <a:off x="5960520" y="215424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we spli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D2C5-1D49-4F0C-9D82-07AEAFC348F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96520" y="253800"/>
            <a:ext cx="80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ahoma"/>
              </a:rPr>
              <a:t>Solution: overflow chai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979640" y="3359160"/>
            <a:ext cx="914400" cy="1218960"/>
            <a:chOff x="1979640" y="3359160"/>
            <a:chExt cx="914400" cy="1218960"/>
          </a:xfrm>
        </p:grpSpPr>
        <p:sp>
          <p:nvSpPr>
            <p:cNvPr id="394" name=""/>
            <p:cNvSpPr/>
            <p:nvPr/>
          </p:nvSpPr>
          <p:spPr>
            <a:xfrm>
              <a:off x="1979640" y="366372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79640" y="3359160"/>
              <a:ext cx="3045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1979640" y="4121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1967400" y="36630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"/>
          <p:cNvSpPr/>
          <p:nvPr/>
        </p:nvSpPr>
        <p:spPr>
          <a:xfrm>
            <a:off x="1967400" y="412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"/>
          <p:cNvSpPr/>
          <p:nvPr/>
        </p:nvSpPr>
        <p:spPr>
          <a:xfrm>
            <a:off x="836640" y="30542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484960" y="3257640"/>
            <a:ext cx="914400" cy="1218960"/>
            <a:chOff x="5484960" y="3257640"/>
            <a:chExt cx="914400" cy="1218960"/>
          </a:xfrm>
        </p:grpSpPr>
        <p:sp>
          <p:nvSpPr>
            <p:cNvPr id="401" name=""/>
            <p:cNvSpPr/>
            <p:nvPr/>
          </p:nvSpPr>
          <p:spPr>
            <a:xfrm>
              <a:off x="5484960" y="35622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484960" y="3257640"/>
              <a:ext cx="3045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484960" y="4019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4341960" y="2952720"/>
            <a:ext cx="9903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7196040" y="35719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6408720" y="35719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"/>
          <p:cNvSpPr/>
          <p:nvPr/>
        </p:nvSpPr>
        <p:spPr>
          <a:xfrm>
            <a:off x="7196040" y="402912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7183800" y="35708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1301040" y="219240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nsert 1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4836960" y="215424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dd overflow block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5485320" y="40312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"/>
          <p:cNvSpPr/>
          <p:nvPr/>
        </p:nvSpPr>
        <p:spPr>
          <a:xfrm>
            <a:off x="5510520" y="35740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"/>
          <p:cNvSpPr/>
          <p:nvPr/>
        </p:nvSpPr>
        <p:spPr>
          <a:xfrm>
            <a:off x="6603840" y="3746520"/>
            <a:ext cx="571680" cy="63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250F-8E75-4A12-BADA-56D77C9D98C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25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xtensible hash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74640" y="1480680"/>
            <a:ext cx="7261200" cy="20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handle growing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with less wasted sp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with no full reorganiz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501480" y="609480"/>
            <a:ext cx="2133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598320" y="160164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620640" y="3406680"/>
            <a:ext cx="5835600" cy="2799000"/>
            <a:chOff x="620640" y="3406680"/>
            <a:chExt cx="5835600" cy="2799000"/>
          </a:xfrm>
        </p:grpSpPr>
        <p:sp>
          <p:nvSpPr>
            <p:cNvPr id="419" name=""/>
            <p:cNvSpPr/>
            <p:nvPr/>
          </p:nvSpPr>
          <p:spPr>
            <a:xfrm>
              <a:off x="696960" y="3406680"/>
              <a:ext cx="5759280" cy="27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Indirection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(Not bad if directory in memory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irectory doubles in size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(Now it fits, now it does not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20640" y="3525840"/>
              <a:ext cx="381240" cy="41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20640" y="4668840"/>
              <a:ext cx="381240" cy="41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022A-56C0-448B-BB4D-B2CD59A5EBC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01760" y="41436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Linear hash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33520" y="1252440"/>
            <a:ext cx="777240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dynamic hashing sche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511200" y="1905120"/>
            <a:ext cx="7815240" cy="1945440"/>
            <a:chOff x="511200" y="1905120"/>
            <a:chExt cx="7815240" cy="1945440"/>
          </a:xfrm>
        </p:grpSpPr>
        <p:sp>
          <p:nvSpPr>
            <p:cNvPr id="425" name=""/>
            <p:cNvSpPr/>
            <p:nvPr/>
          </p:nvSpPr>
          <p:spPr>
            <a:xfrm>
              <a:off x="555480" y="1905120"/>
              <a:ext cx="289584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00"/>
                  </a:solidFill>
                  <a:uFillTx/>
                  <a:latin typeface="Tahoma"/>
                </a:rPr>
                <a:t>Two ideas: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11200" y="2525760"/>
              <a:ext cx="5181480" cy="5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marL="325800" indent="-32580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(a) Us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Tahoma"/>
                </a:rPr>
                <a:t>low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order bits of hash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497640" y="2884680"/>
              <a:ext cx="1828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0111010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6543360" y="26560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08960" y="26575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7108560" y="36352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799400" y="3227040"/>
              <a:ext cx="228600" cy="6094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8520" y="3428280"/>
              <a:ext cx="84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row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246080" y="247104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56360" y="3482280"/>
              <a:ext cx="24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674640" y="4038480"/>
            <a:ext cx="5649840" cy="1405080"/>
            <a:chOff x="674640" y="4038480"/>
            <a:chExt cx="5649840" cy="1405080"/>
          </a:xfrm>
        </p:grpSpPr>
        <p:sp>
          <p:nvSpPr>
            <p:cNvPr id="436" name=""/>
            <p:cNvSpPr/>
            <p:nvPr/>
          </p:nvSpPr>
          <p:spPr>
            <a:xfrm>
              <a:off x="674640" y="4038480"/>
              <a:ext cx="45720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(b) File grows linearly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05120" y="491004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286000" y="491004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66880" y="4910040"/>
              <a:ext cx="3812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048120" y="491004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429000" y="491004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09880" y="4910040"/>
              <a:ext cx="3812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191120" y="491004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572000" y="491004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952880" y="4910040"/>
              <a:ext cx="3812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638680" y="51386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6167-4F18-4527-84DC-56A39B2DE66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237960" y="2635200"/>
            <a:ext cx="12956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"/>
          <p:cNvSpPr/>
          <p:nvPr/>
        </p:nvSpPr>
        <p:spPr>
          <a:xfrm>
            <a:off x="1762200" y="2635200"/>
            <a:ext cx="12952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26520" y="313920"/>
            <a:ext cx="80550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4 bits, 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2,   2 keys/buc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10840" y="3602160"/>
            <a:ext cx="560556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01             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4734000" y="2635200"/>
            <a:ext cx="1295280" cy="914400"/>
            <a:chOff x="4734000" y="2635200"/>
            <a:chExt cx="1295280" cy="914400"/>
          </a:xfrm>
        </p:grpSpPr>
        <p:sp>
          <p:nvSpPr>
            <p:cNvPr id="452" name=""/>
            <p:cNvSpPr/>
            <p:nvPr/>
          </p:nvSpPr>
          <p:spPr>
            <a:xfrm>
              <a:off x="4734000" y="2635200"/>
              <a:ext cx="1295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734000" y="3092400"/>
              <a:ext cx="1295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3286080" y="2635200"/>
            <a:ext cx="1295280" cy="914400"/>
            <a:chOff x="3286080" y="2635200"/>
            <a:chExt cx="1295280" cy="914400"/>
          </a:xfrm>
        </p:grpSpPr>
        <p:sp>
          <p:nvSpPr>
            <p:cNvPr id="455" name=""/>
            <p:cNvSpPr/>
            <p:nvPr/>
          </p:nvSpPr>
          <p:spPr>
            <a:xfrm>
              <a:off x="3286080" y="2635200"/>
              <a:ext cx="1295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286080" y="3092400"/>
              <a:ext cx="1295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762200" y="26352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"/>
          <p:cNvSpPr/>
          <p:nvPr/>
        </p:nvSpPr>
        <p:spPr>
          <a:xfrm>
            <a:off x="1762200" y="3092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"/>
          <p:cNvSpPr/>
          <p:nvPr/>
        </p:nvSpPr>
        <p:spPr>
          <a:xfrm>
            <a:off x="237960" y="2635200"/>
            <a:ext cx="1295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"/>
          <p:cNvSpPr/>
          <p:nvPr/>
        </p:nvSpPr>
        <p:spPr>
          <a:xfrm>
            <a:off x="237960" y="3092400"/>
            <a:ext cx="1295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6118200" y="27543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"/>
          <p:cNvSpPr/>
          <p:nvPr/>
        </p:nvSpPr>
        <p:spPr>
          <a:xfrm>
            <a:off x="1533960" y="4028040"/>
            <a:ext cx="36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01 (max used blo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"/>
          <p:cNvSpPr/>
          <p:nvPr/>
        </p:nvSpPr>
        <p:spPr>
          <a:xfrm>
            <a:off x="6502680" y="2325240"/>
            <a:ext cx="1015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ow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cke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880920" y="4713120"/>
            <a:ext cx="6499440" cy="1371600"/>
            <a:chOff x="880920" y="4713120"/>
            <a:chExt cx="6499440" cy="1371600"/>
          </a:xfrm>
        </p:grpSpPr>
        <p:sp>
          <p:nvSpPr>
            <p:cNvPr id="465" name=""/>
            <p:cNvSpPr/>
            <p:nvPr/>
          </p:nvSpPr>
          <p:spPr>
            <a:xfrm>
              <a:off x="1849320" y="4713120"/>
              <a:ext cx="55310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9000"/>
            </a:bodyPr>
            <a:p>
              <a:pPr marL="305280" indent="-3052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If h(k)[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ahoma"/>
                </a:rPr>
                <a:t>i 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] </a:t>
              </a: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ahoma"/>
                </a:rPr>
                <a:t>m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, the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marL="305280" indent="-3052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 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look at bucket h(k)[i ]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marL="305280" indent="-305280">
                <a:lnSpc>
                  <a:spcPct val="7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else, look at bucket h(k)[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ahoma"/>
                </a:rPr>
                <a:t>i 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]</a:t>
              </a:r>
              <a:r>
                <a:rPr b="0" lang="en-US" sz="32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- 2</a:t>
              </a:r>
              <a:r>
                <a:rPr b="0" i="1" lang="en-US" sz="2400" spc="-1" strike="noStrike" baseline="30000">
                  <a:solidFill>
                    <a:srgbClr val="ff0000"/>
                  </a:solidFill>
                  <a:latin typeface="Tahoma"/>
                </a:rPr>
                <a:t>i 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Tahoma"/>
                </a:rPr>
                <a:t>-1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marL="305280" indent="-305280">
                <a:lnSpc>
                  <a:spcPct val="7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0920" y="4724280"/>
              <a:ext cx="8384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Rul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1295280" y="880920"/>
            <a:ext cx="6826320" cy="1744920"/>
            <a:chOff x="1295280" y="880920"/>
            <a:chExt cx="6826320" cy="1744920"/>
          </a:xfrm>
        </p:grpSpPr>
        <p:sp>
          <p:nvSpPr>
            <p:cNvPr id="468" name=""/>
            <p:cNvSpPr/>
            <p:nvPr/>
          </p:nvSpPr>
          <p:spPr>
            <a:xfrm>
              <a:off x="1295280" y="239544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819520" y="239544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343400" y="238428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791320" y="239724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774800" y="1122480"/>
              <a:ext cx="1295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010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774800" y="1579680"/>
              <a:ext cx="1295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830680" y="88092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928960" y="1882800"/>
              <a:ext cx="387360" cy="620640"/>
            </a:xfrm>
            <a:custGeom>
              <a:avLst/>
              <a:gdLst/>
              <a:ahLst/>
              <a:rect l="l" t="t" r="r" b="b"/>
              <a:pathLst>
                <a:path w="244" h="391">
                  <a:moveTo>
                    <a:pt x="0" y="391"/>
                  </a:moveTo>
                  <a:cubicBezTo>
                    <a:pt x="69" y="366"/>
                    <a:pt x="139" y="341"/>
                    <a:pt x="178" y="309"/>
                  </a:cubicBezTo>
                  <a:cubicBezTo>
                    <a:pt x="217" y="277"/>
                    <a:pt x="244" y="250"/>
                    <a:pt x="233" y="199"/>
                  </a:cubicBezTo>
                  <a:cubicBezTo>
                    <a:pt x="222" y="148"/>
                    <a:pt x="130" y="34"/>
                    <a:pt x="109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68720" y="1468800"/>
              <a:ext cx="40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can have overflow chains!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4091400" y="97992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nsert 01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127F-C6A1-49C4-97DE-A6C9CE4F87F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98400" y="4190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ahoma"/>
              </a:rPr>
              <a:t>Not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23960" y="1104840"/>
            <a:ext cx="777240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xtbook, n is used instead of 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=m+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"/>
          <p:cNvSpPr/>
          <p:nvPr/>
        </p:nvSpPr>
        <p:spPr>
          <a:xfrm>
            <a:off x="746280" y="3371760"/>
            <a:ext cx="12952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2270160" y="3371760"/>
            <a:ext cx="12952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"/>
          <p:cNvSpPr/>
          <p:nvPr/>
        </p:nvSpPr>
        <p:spPr>
          <a:xfrm>
            <a:off x="1019160" y="4338720"/>
            <a:ext cx="56055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01             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5241960" y="3371760"/>
            <a:ext cx="1295280" cy="914400"/>
            <a:chOff x="5241960" y="3371760"/>
            <a:chExt cx="1295280" cy="914400"/>
          </a:xfrm>
        </p:grpSpPr>
        <p:sp>
          <p:nvSpPr>
            <p:cNvPr id="484" name=""/>
            <p:cNvSpPr/>
            <p:nvPr/>
          </p:nvSpPr>
          <p:spPr>
            <a:xfrm>
              <a:off x="5241960" y="3371760"/>
              <a:ext cx="1295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41960" y="3828960"/>
              <a:ext cx="1295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3794040" y="3371760"/>
            <a:ext cx="1295640" cy="914400"/>
            <a:chOff x="3794040" y="3371760"/>
            <a:chExt cx="1295640" cy="914400"/>
          </a:xfrm>
        </p:grpSpPr>
        <p:sp>
          <p:nvSpPr>
            <p:cNvPr id="487" name=""/>
            <p:cNvSpPr/>
            <p:nvPr/>
          </p:nvSpPr>
          <p:spPr>
            <a:xfrm>
              <a:off x="3794040" y="3371760"/>
              <a:ext cx="12956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794040" y="3828960"/>
              <a:ext cx="12956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270160" y="337176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"/>
          <p:cNvSpPr/>
          <p:nvPr/>
        </p:nvSpPr>
        <p:spPr>
          <a:xfrm>
            <a:off x="2270160" y="382896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"/>
          <p:cNvSpPr/>
          <p:nvPr/>
        </p:nvSpPr>
        <p:spPr>
          <a:xfrm>
            <a:off x="746280" y="337176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746280" y="382896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6625800" y="3490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"/>
          <p:cNvSpPr/>
          <p:nvPr/>
        </p:nvSpPr>
        <p:spPr>
          <a:xfrm>
            <a:off x="2041920" y="4764600"/>
            <a:ext cx="36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01 (max used blo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"/>
          <p:cNvSpPr/>
          <p:nvPr/>
        </p:nvSpPr>
        <p:spPr>
          <a:xfrm>
            <a:off x="7010640" y="3061800"/>
            <a:ext cx="1015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ow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cke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4108320" y="247176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=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"/>
          <p:cNvSpPr/>
          <p:nvPr/>
        </p:nvSpPr>
        <p:spPr>
          <a:xfrm>
            <a:off x="4330800" y="2895480"/>
            <a:ext cx="0" cy="419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E1E4-706C-4AB0-9CBA-D3140BC6A16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237960" y="2635200"/>
            <a:ext cx="12956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>
            <a:off x="1762200" y="2635200"/>
            <a:ext cx="12952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26520" y="380520"/>
            <a:ext cx="80550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4 bits, 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2,   2 keys/buc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10840" y="3602160"/>
            <a:ext cx="560556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01              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4734000" y="2635200"/>
            <a:ext cx="1295280" cy="914400"/>
            <a:chOff x="4734000" y="2635200"/>
            <a:chExt cx="1295280" cy="914400"/>
          </a:xfrm>
        </p:grpSpPr>
        <p:sp>
          <p:nvSpPr>
            <p:cNvPr id="503" name=""/>
            <p:cNvSpPr/>
            <p:nvPr/>
          </p:nvSpPr>
          <p:spPr>
            <a:xfrm>
              <a:off x="4734000" y="2635200"/>
              <a:ext cx="1295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734000" y="3092400"/>
              <a:ext cx="1295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3286080" y="2635200"/>
            <a:ext cx="1295280" cy="914400"/>
            <a:chOff x="3286080" y="2635200"/>
            <a:chExt cx="1295280" cy="914400"/>
          </a:xfrm>
        </p:grpSpPr>
        <p:sp>
          <p:nvSpPr>
            <p:cNvPr id="506" name=""/>
            <p:cNvSpPr/>
            <p:nvPr/>
          </p:nvSpPr>
          <p:spPr>
            <a:xfrm>
              <a:off x="3286080" y="2635200"/>
              <a:ext cx="1295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286080" y="3092400"/>
              <a:ext cx="1295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1762200" y="26352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62200" y="3092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>
            <a:off x="237960" y="2635200"/>
            <a:ext cx="1295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"/>
          <p:cNvSpPr/>
          <p:nvPr/>
        </p:nvSpPr>
        <p:spPr>
          <a:xfrm>
            <a:off x="237960" y="3092400"/>
            <a:ext cx="1295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6118200" y="27543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"/>
          <p:cNvSpPr/>
          <p:nvPr/>
        </p:nvSpPr>
        <p:spPr>
          <a:xfrm>
            <a:off x="1533960" y="4028040"/>
            <a:ext cx="36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01 (max used blo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"/>
          <p:cNvSpPr/>
          <p:nvPr/>
        </p:nvSpPr>
        <p:spPr>
          <a:xfrm>
            <a:off x="6502680" y="2325240"/>
            <a:ext cx="1015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ow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cke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2176200" y="2624040"/>
            <a:ext cx="2406960" cy="2209680"/>
            <a:chOff x="2176200" y="2624040"/>
            <a:chExt cx="2406960" cy="2209680"/>
          </a:xfrm>
        </p:grpSpPr>
        <p:sp>
          <p:nvSpPr>
            <p:cNvPr id="516" name=""/>
            <p:cNvSpPr/>
            <p:nvPr/>
          </p:nvSpPr>
          <p:spPr>
            <a:xfrm>
              <a:off x="2232000" y="4213080"/>
              <a:ext cx="434880" cy="184320"/>
            </a:xfrm>
            <a:custGeom>
              <a:avLst/>
              <a:gdLst/>
              <a:ahLst/>
              <a:rect l="l" t="t" r="r" b="b"/>
              <a:pathLst>
                <a:path w="274" h="116">
                  <a:moveTo>
                    <a:pt x="0" y="116"/>
                  </a:moveTo>
                  <a:cubicBezTo>
                    <a:pt x="20" y="109"/>
                    <a:pt x="43" y="105"/>
                    <a:pt x="61" y="96"/>
                  </a:cubicBezTo>
                  <a:cubicBezTo>
                    <a:pt x="99" y="76"/>
                    <a:pt x="130" y="55"/>
                    <a:pt x="171" y="41"/>
                  </a:cubicBezTo>
                  <a:cubicBezTo>
                    <a:pt x="201" y="31"/>
                    <a:pt x="254" y="20"/>
                    <a:pt x="274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176200" y="43740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287880" y="2624040"/>
              <a:ext cx="1295280" cy="924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287880" y="3081240"/>
              <a:ext cx="129528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449440" y="3875040"/>
              <a:ext cx="1120680" cy="228600"/>
            </a:xfrm>
            <a:custGeom>
              <a:avLst/>
              <a:gdLst/>
              <a:ahLst/>
              <a:rect l="l" t="t" r="r" b="b"/>
              <a:pathLst>
                <a:path w="706" h="144">
                  <a:moveTo>
                    <a:pt x="0" y="144"/>
                  </a:moveTo>
                  <a:cubicBezTo>
                    <a:pt x="9" y="122"/>
                    <a:pt x="18" y="100"/>
                    <a:pt x="68" y="89"/>
                  </a:cubicBezTo>
                  <a:cubicBezTo>
                    <a:pt x="118" y="78"/>
                    <a:pt x="223" y="78"/>
                    <a:pt x="302" y="76"/>
                  </a:cubicBezTo>
                  <a:cubicBezTo>
                    <a:pt x="381" y="74"/>
                    <a:pt x="475" y="89"/>
                    <a:pt x="542" y="76"/>
                  </a:cubicBezTo>
                  <a:cubicBezTo>
                    <a:pt x="609" y="63"/>
                    <a:pt x="680" y="13"/>
                    <a:pt x="706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500040" y="2632680"/>
            <a:ext cx="3871440" cy="807480"/>
            <a:chOff x="500040" y="2632680"/>
            <a:chExt cx="3871440" cy="807480"/>
          </a:xfrm>
        </p:grpSpPr>
        <p:sp>
          <p:nvSpPr>
            <p:cNvPr id="522" name=""/>
            <p:cNvSpPr/>
            <p:nvPr/>
          </p:nvSpPr>
          <p:spPr>
            <a:xfrm>
              <a:off x="500040" y="3276720"/>
              <a:ext cx="838080" cy="163440"/>
            </a:xfrm>
            <a:custGeom>
              <a:avLst/>
              <a:gdLst/>
              <a:ahLst/>
              <a:rect l="l" t="t" r="r" b="b"/>
              <a:pathLst>
                <a:path w="528" h="103">
                  <a:moveTo>
                    <a:pt x="0" y="103"/>
                  </a:moveTo>
                  <a:cubicBezTo>
                    <a:pt x="43" y="94"/>
                    <a:pt x="75" y="71"/>
                    <a:pt x="117" y="62"/>
                  </a:cubicBezTo>
                  <a:cubicBezTo>
                    <a:pt x="217" y="39"/>
                    <a:pt x="317" y="34"/>
                    <a:pt x="419" y="27"/>
                  </a:cubicBezTo>
                  <a:cubicBezTo>
                    <a:pt x="460" y="18"/>
                    <a:pt x="485" y="0"/>
                    <a:pt x="528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495960" y="263268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10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1295280" y="880920"/>
            <a:ext cx="4724640" cy="1744920"/>
            <a:chOff x="1295280" y="880920"/>
            <a:chExt cx="4724640" cy="1744920"/>
          </a:xfrm>
        </p:grpSpPr>
        <p:sp>
          <p:nvSpPr>
            <p:cNvPr id="525" name=""/>
            <p:cNvSpPr/>
            <p:nvPr/>
          </p:nvSpPr>
          <p:spPr>
            <a:xfrm>
              <a:off x="1295280" y="239544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819520" y="239544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343400" y="238428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791320" y="239724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774800" y="1122480"/>
              <a:ext cx="1295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010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774800" y="1579680"/>
              <a:ext cx="1295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830680" y="88092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928960" y="1882800"/>
              <a:ext cx="387360" cy="620640"/>
            </a:xfrm>
            <a:custGeom>
              <a:avLst/>
              <a:gdLst/>
              <a:ahLst/>
              <a:rect l="l" t="t" r="r" b="b"/>
              <a:pathLst>
                <a:path w="244" h="391">
                  <a:moveTo>
                    <a:pt x="0" y="391"/>
                  </a:moveTo>
                  <a:cubicBezTo>
                    <a:pt x="69" y="366"/>
                    <a:pt x="139" y="341"/>
                    <a:pt x="178" y="309"/>
                  </a:cubicBezTo>
                  <a:cubicBezTo>
                    <a:pt x="217" y="277"/>
                    <a:pt x="244" y="250"/>
                    <a:pt x="233" y="199"/>
                  </a:cubicBezTo>
                  <a:cubicBezTo>
                    <a:pt x="222" y="148"/>
                    <a:pt x="130" y="34"/>
                    <a:pt x="109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962520" y="1153080"/>
              <a:ext cx="197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insert 010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198160" y="2395440"/>
            <a:ext cx="3832920" cy="2797200"/>
            <a:chOff x="2198160" y="2395440"/>
            <a:chExt cx="3832920" cy="2797200"/>
          </a:xfrm>
        </p:grpSpPr>
        <p:sp>
          <p:nvSpPr>
            <p:cNvPr id="535" name=""/>
            <p:cNvSpPr/>
            <p:nvPr/>
          </p:nvSpPr>
          <p:spPr>
            <a:xfrm>
              <a:off x="2243160" y="4551480"/>
              <a:ext cx="457200" cy="129960"/>
            </a:xfrm>
            <a:custGeom>
              <a:avLst/>
              <a:gdLst/>
              <a:ahLst/>
              <a:rect l="l" t="t" r="r" b="b"/>
              <a:pathLst>
                <a:path w="288" h="82">
                  <a:moveTo>
                    <a:pt x="0" y="82"/>
                  </a:moveTo>
                  <a:cubicBezTo>
                    <a:pt x="55" y="73"/>
                    <a:pt x="28" y="79"/>
                    <a:pt x="82" y="61"/>
                  </a:cubicBezTo>
                  <a:cubicBezTo>
                    <a:pt x="116" y="49"/>
                    <a:pt x="157" y="51"/>
                    <a:pt x="192" y="41"/>
                  </a:cubicBezTo>
                  <a:cubicBezTo>
                    <a:pt x="218" y="34"/>
                    <a:pt x="243" y="25"/>
                    <a:pt x="267" y="13"/>
                  </a:cubicBezTo>
                  <a:cubicBezTo>
                    <a:pt x="274" y="9"/>
                    <a:pt x="288" y="0"/>
                    <a:pt x="288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724280" y="2633760"/>
              <a:ext cx="1306800" cy="915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724280" y="3081240"/>
              <a:ext cx="1306800" cy="0"/>
            </a:xfrm>
            <a:prstGeom prst="line">
              <a:avLst/>
            </a:prstGeom>
            <a:ln w="93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802480" y="2395440"/>
              <a:ext cx="217440" cy="217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198160" y="47329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700360" y="4049640"/>
              <a:ext cx="2732040" cy="925560"/>
            </a:xfrm>
            <a:custGeom>
              <a:avLst/>
              <a:gdLst/>
              <a:ahLst/>
              <a:rect l="l" t="t" r="r" b="b"/>
              <a:pathLst>
                <a:path w="1721" h="583">
                  <a:moveTo>
                    <a:pt x="0" y="583"/>
                  </a:moveTo>
                  <a:cubicBezTo>
                    <a:pt x="439" y="575"/>
                    <a:pt x="878" y="568"/>
                    <a:pt x="1145" y="528"/>
                  </a:cubicBezTo>
                  <a:cubicBezTo>
                    <a:pt x="1412" y="488"/>
                    <a:pt x="1508" y="431"/>
                    <a:pt x="1604" y="343"/>
                  </a:cubicBezTo>
                  <a:cubicBezTo>
                    <a:pt x="1700" y="255"/>
                    <a:pt x="1704" y="57"/>
                    <a:pt x="1721" y="0"/>
                  </a:cubicBezTo>
                </a:path>
              </a:pathLst>
            </a:custGeom>
            <a:noFill/>
            <a:ln w="1908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1566720" y="1077840"/>
            <a:ext cx="4263840" cy="2362320"/>
            <a:chOff x="1566720" y="1077840"/>
            <a:chExt cx="4263840" cy="2362320"/>
          </a:xfrm>
        </p:grpSpPr>
        <p:sp>
          <p:nvSpPr>
            <p:cNvPr id="542" name=""/>
            <p:cNvSpPr/>
            <p:nvPr/>
          </p:nvSpPr>
          <p:spPr>
            <a:xfrm>
              <a:off x="1981080" y="3319560"/>
              <a:ext cx="887400" cy="120600"/>
            </a:xfrm>
            <a:custGeom>
              <a:avLst/>
              <a:gdLst/>
              <a:ahLst/>
              <a:rect l="l" t="t" r="r" b="b"/>
              <a:pathLst>
                <a:path w="559" h="76">
                  <a:moveTo>
                    <a:pt x="0" y="76"/>
                  </a:moveTo>
                  <a:cubicBezTo>
                    <a:pt x="59" y="56"/>
                    <a:pt x="120" y="16"/>
                    <a:pt x="185" y="14"/>
                  </a:cubicBezTo>
                  <a:cubicBezTo>
                    <a:pt x="559" y="1"/>
                    <a:pt x="437" y="64"/>
                    <a:pt x="555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955040" y="263268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ahoma"/>
                </a:rPr>
                <a:t>111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600200" y="1208160"/>
              <a:ext cx="1893960" cy="838080"/>
            </a:xfrm>
            <a:custGeom>
              <a:avLst/>
              <a:gdLst/>
              <a:ahLst/>
              <a:rect l="l" t="t" r="r" b="b"/>
              <a:pathLst>
                <a:path w="1193" h="528">
                  <a:moveTo>
                    <a:pt x="0" y="528"/>
                  </a:moveTo>
                  <a:cubicBezTo>
                    <a:pt x="47" y="497"/>
                    <a:pt x="83" y="456"/>
                    <a:pt x="130" y="425"/>
                  </a:cubicBezTo>
                  <a:cubicBezTo>
                    <a:pt x="223" y="363"/>
                    <a:pt x="382" y="285"/>
                    <a:pt x="487" y="261"/>
                  </a:cubicBezTo>
                  <a:cubicBezTo>
                    <a:pt x="583" y="239"/>
                    <a:pt x="597" y="233"/>
                    <a:pt x="686" y="206"/>
                  </a:cubicBezTo>
                  <a:cubicBezTo>
                    <a:pt x="726" y="194"/>
                    <a:pt x="809" y="178"/>
                    <a:pt x="809" y="178"/>
                  </a:cubicBezTo>
                  <a:cubicBezTo>
                    <a:pt x="889" y="139"/>
                    <a:pt x="975" y="113"/>
                    <a:pt x="1056" y="76"/>
                  </a:cubicBezTo>
                  <a:cubicBezTo>
                    <a:pt x="1095" y="58"/>
                    <a:pt x="1124" y="31"/>
                    <a:pt x="1166" y="21"/>
                  </a:cubicBezTo>
                  <a:cubicBezTo>
                    <a:pt x="1175" y="14"/>
                    <a:pt x="1193" y="0"/>
                    <a:pt x="1193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66720" y="1077840"/>
              <a:ext cx="2090880" cy="936720"/>
            </a:xfrm>
            <a:custGeom>
              <a:avLst/>
              <a:gdLst/>
              <a:ahLst/>
              <a:rect l="l" t="t" r="r" b="b"/>
              <a:pathLst>
                <a:path w="1317" h="590">
                  <a:moveTo>
                    <a:pt x="0" y="0"/>
                  </a:moveTo>
                  <a:cubicBezTo>
                    <a:pt x="96" y="68"/>
                    <a:pt x="197" y="114"/>
                    <a:pt x="302" y="164"/>
                  </a:cubicBezTo>
                  <a:cubicBezTo>
                    <a:pt x="390" y="206"/>
                    <a:pt x="474" y="254"/>
                    <a:pt x="563" y="295"/>
                  </a:cubicBezTo>
                  <a:cubicBezTo>
                    <a:pt x="701" y="358"/>
                    <a:pt x="828" y="432"/>
                    <a:pt x="974" y="480"/>
                  </a:cubicBezTo>
                  <a:cubicBezTo>
                    <a:pt x="1057" y="507"/>
                    <a:pt x="1138" y="536"/>
                    <a:pt x="1221" y="562"/>
                  </a:cubicBezTo>
                  <a:cubicBezTo>
                    <a:pt x="1254" y="572"/>
                    <a:pt x="1282" y="590"/>
                    <a:pt x="1317" y="59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081240" y="2198520"/>
              <a:ext cx="381240" cy="76320"/>
            </a:xfrm>
            <a:custGeom>
              <a:avLst/>
              <a:gdLst/>
              <a:ahLst/>
              <a:rect l="l" t="t" r="r" b="b"/>
              <a:pathLst>
                <a:path w="240" h="48">
                  <a:moveTo>
                    <a:pt x="0" y="0"/>
                  </a:moveTo>
                  <a:cubicBezTo>
                    <a:pt x="53" y="4"/>
                    <a:pt x="106" y="5"/>
                    <a:pt x="157" y="21"/>
                  </a:cubicBezTo>
                  <a:cubicBezTo>
                    <a:pt x="178" y="27"/>
                    <a:pt x="198" y="35"/>
                    <a:pt x="219" y="42"/>
                  </a:cubicBezTo>
                  <a:cubicBezTo>
                    <a:pt x="226" y="44"/>
                    <a:pt x="240" y="48"/>
                    <a:pt x="240" y="48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66920" y="2155680"/>
              <a:ext cx="284400" cy="206640"/>
            </a:xfrm>
            <a:custGeom>
              <a:avLst/>
              <a:gdLst/>
              <a:ahLst/>
              <a:rect l="l" t="t" r="r" b="b"/>
              <a:pathLst>
                <a:path w="179" h="130">
                  <a:moveTo>
                    <a:pt x="0" y="130"/>
                  </a:moveTo>
                  <a:cubicBezTo>
                    <a:pt x="44" y="102"/>
                    <a:pt x="81" y="69"/>
                    <a:pt x="124" y="41"/>
                  </a:cubicBezTo>
                  <a:cubicBezTo>
                    <a:pt x="144" y="28"/>
                    <a:pt x="157" y="11"/>
                    <a:pt x="179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684440" y="30250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Tahoma"/>
                </a:rPr>
                <a:t>010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E60D-B639-4B84-A958-B6C0EB2F3CF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237960" y="2635200"/>
            <a:ext cx="12956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"/>
          <p:cNvSpPr/>
          <p:nvPr/>
        </p:nvSpPr>
        <p:spPr>
          <a:xfrm>
            <a:off x="1762200" y="2635200"/>
            <a:ext cx="12952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15720" y="258480"/>
            <a:ext cx="85230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Example Continued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grow beyond thi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10840" y="3602160"/>
            <a:ext cx="560556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01              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4734000" y="26352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4734000" y="3092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"/>
          <p:cNvSpPr/>
          <p:nvPr/>
        </p:nvSpPr>
        <p:spPr>
          <a:xfrm>
            <a:off x="3286080" y="26352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"/>
          <p:cNvSpPr/>
          <p:nvPr/>
        </p:nvSpPr>
        <p:spPr>
          <a:xfrm>
            <a:off x="3286080" y="3092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"/>
          <p:cNvSpPr/>
          <p:nvPr/>
        </p:nvSpPr>
        <p:spPr>
          <a:xfrm>
            <a:off x="1762200" y="26352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762200" y="3092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237960" y="2635200"/>
            <a:ext cx="1295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237960" y="3092400"/>
            <a:ext cx="1295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1500480" y="4505760"/>
            <a:ext cx="36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11 (max used blo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2143800" y="1554840"/>
            <a:ext cx="7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323640" y="1567440"/>
            <a:ext cx="8634600" cy="2832840"/>
            <a:chOff x="323640" y="1567440"/>
            <a:chExt cx="8634600" cy="2832840"/>
          </a:xfrm>
        </p:grpSpPr>
        <p:sp>
          <p:nvSpPr>
            <p:cNvPr id="564" name=""/>
            <p:cNvSpPr/>
            <p:nvPr/>
          </p:nvSpPr>
          <p:spPr>
            <a:xfrm>
              <a:off x="323640" y="360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879560" y="360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589200" y="360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884480" y="360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28120" y="3940560"/>
              <a:ext cx="480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100           101             110        11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90920" y="1719360"/>
              <a:ext cx="315720" cy="218880"/>
            </a:xfrm>
            <a:custGeom>
              <a:avLst/>
              <a:gdLst/>
              <a:ahLst/>
              <a:rect l="l" t="t" r="r" b="b"/>
              <a:pathLst>
                <a:path w="199" h="138">
                  <a:moveTo>
                    <a:pt x="0" y="138"/>
                  </a:moveTo>
                  <a:cubicBezTo>
                    <a:pt x="23" y="122"/>
                    <a:pt x="45" y="105"/>
                    <a:pt x="69" y="90"/>
                  </a:cubicBezTo>
                  <a:cubicBezTo>
                    <a:pt x="82" y="70"/>
                    <a:pt x="103" y="48"/>
                    <a:pt x="123" y="35"/>
                  </a:cubicBezTo>
                  <a:cubicBezTo>
                    <a:pt x="140" y="24"/>
                    <a:pt x="158" y="14"/>
                    <a:pt x="178" y="7"/>
                  </a:cubicBezTo>
                  <a:cubicBezTo>
                    <a:pt x="185" y="5"/>
                    <a:pt x="199" y="0"/>
                    <a:pt x="199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882520" y="15674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192720" y="3092400"/>
              <a:ext cx="12956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192720" y="2635200"/>
              <a:ext cx="12956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62960" y="3092400"/>
              <a:ext cx="1295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62960" y="2635200"/>
              <a:ext cx="1295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8350920" y="37422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316080" y="2633760"/>
            <a:ext cx="7173720" cy="2779560"/>
            <a:chOff x="316080" y="2633760"/>
            <a:chExt cx="7173720" cy="2779560"/>
          </a:xfrm>
        </p:grpSpPr>
        <p:sp>
          <p:nvSpPr>
            <p:cNvPr id="577" name=""/>
            <p:cNvSpPr/>
            <p:nvPr/>
          </p:nvSpPr>
          <p:spPr>
            <a:xfrm>
              <a:off x="2198520" y="4681440"/>
              <a:ext cx="435240" cy="228600"/>
            </a:xfrm>
            <a:custGeom>
              <a:avLst/>
              <a:gdLst/>
              <a:ahLst/>
              <a:rect l="l" t="t" r="r" b="b"/>
              <a:pathLst>
                <a:path w="274" h="144">
                  <a:moveTo>
                    <a:pt x="0" y="144"/>
                  </a:moveTo>
                  <a:cubicBezTo>
                    <a:pt x="23" y="75"/>
                    <a:pt x="93" y="44"/>
                    <a:pt x="158" y="27"/>
                  </a:cubicBezTo>
                  <a:cubicBezTo>
                    <a:pt x="194" y="18"/>
                    <a:pt x="236" y="0"/>
                    <a:pt x="274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145600" y="495360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94520" y="2633760"/>
              <a:ext cx="1295280" cy="914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194520" y="3090960"/>
              <a:ext cx="128412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873520" y="4235400"/>
              <a:ext cx="3919320" cy="1009800"/>
            </a:xfrm>
            <a:custGeom>
              <a:avLst/>
              <a:gdLst/>
              <a:ahLst/>
              <a:rect l="l" t="t" r="r" b="b"/>
              <a:pathLst>
                <a:path w="2599" h="986">
                  <a:moveTo>
                    <a:pt x="0" y="960"/>
                  </a:moveTo>
                  <a:cubicBezTo>
                    <a:pt x="726" y="973"/>
                    <a:pt x="1452" y="986"/>
                    <a:pt x="1831" y="960"/>
                  </a:cubicBezTo>
                  <a:cubicBezTo>
                    <a:pt x="2210" y="934"/>
                    <a:pt x="2149" y="962"/>
                    <a:pt x="2277" y="802"/>
                  </a:cubicBezTo>
                  <a:cubicBezTo>
                    <a:pt x="2405" y="642"/>
                    <a:pt x="2502" y="321"/>
                    <a:pt x="2599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433200" y="358020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16080" y="4148280"/>
              <a:ext cx="739440" cy="96840"/>
            </a:xfrm>
            <a:custGeom>
              <a:avLst/>
              <a:gdLst/>
              <a:ahLst/>
              <a:rect l="l" t="t" r="r" b="b"/>
              <a:pathLst>
                <a:path w="466" h="61">
                  <a:moveTo>
                    <a:pt x="0" y="61"/>
                  </a:moveTo>
                  <a:cubicBezTo>
                    <a:pt x="54" y="54"/>
                    <a:pt x="105" y="46"/>
                    <a:pt x="158" y="34"/>
                  </a:cubicBezTo>
                  <a:cubicBezTo>
                    <a:pt x="185" y="28"/>
                    <a:pt x="212" y="15"/>
                    <a:pt x="240" y="13"/>
                  </a:cubicBezTo>
                  <a:cubicBezTo>
                    <a:pt x="401" y="0"/>
                    <a:pt x="382" y="0"/>
                    <a:pt x="466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1816200" y="2622960"/>
            <a:ext cx="7143480" cy="3180960"/>
            <a:chOff x="1816200" y="2622960"/>
            <a:chExt cx="7143480" cy="3180960"/>
          </a:xfrm>
        </p:grpSpPr>
        <p:grpSp>
          <p:nvGrpSpPr>
            <p:cNvPr id="585" name=""/>
            <p:cNvGrpSpPr/>
            <p:nvPr/>
          </p:nvGrpSpPr>
          <p:grpSpPr>
            <a:xfrm>
              <a:off x="1816200" y="2633760"/>
              <a:ext cx="7143480" cy="3170160"/>
              <a:chOff x="1816200" y="2633760"/>
              <a:chExt cx="7143480" cy="3170160"/>
            </a:xfrm>
          </p:grpSpPr>
          <p:sp>
            <p:nvSpPr>
              <p:cNvPr id="586" name=""/>
              <p:cNvSpPr/>
              <p:nvPr/>
            </p:nvSpPr>
            <p:spPr>
              <a:xfrm>
                <a:off x="7664400" y="2633760"/>
                <a:ext cx="1295280" cy="914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664400" y="3090960"/>
                <a:ext cx="1284480" cy="0"/>
              </a:xfrm>
              <a:prstGeom prst="line">
                <a:avLst/>
              </a:prstGeom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133720" y="5162400"/>
                <a:ext cx="739800" cy="96840"/>
              </a:xfrm>
              <a:custGeom>
                <a:avLst/>
                <a:gdLst/>
                <a:ahLst/>
                <a:rect l="l" t="t" r="r" b="b"/>
                <a:pathLst>
                  <a:path w="466" h="61">
                    <a:moveTo>
                      <a:pt x="0" y="61"/>
                    </a:moveTo>
                    <a:cubicBezTo>
                      <a:pt x="54" y="54"/>
                      <a:pt x="105" y="46"/>
                      <a:pt x="158" y="34"/>
                    </a:cubicBezTo>
                    <a:cubicBezTo>
                      <a:pt x="185" y="28"/>
                      <a:pt x="212" y="15"/>
                      <a:pt x="240" y="13"/>
                    </a:cubicBezTo>
                    <a:cubicBezTo>
                      <a:pt x="401" y="0"/>
                      <a:pt x="382" y="0"/>
                      <a:pt x="466" y="0"/>
                    </a:cubicBez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816200" y="4148280"/>
                <a:ext cx="739800" cy="96840"/>
              </a:xfrm>
              <a:custGeom>
                <a:avLst/>
                <a:gdLst/>
                <a:ahLst/>
                <a:rect l="l" t="t" r="r" b="b"/>
                <a:pathLst>
                  <a:path w="466" h="61">
                    <a:moveTo>
                      <a:pt x="0" y="61"/>
                    </a:moveTo>
                    <a:cubicBezTo>
                      <a:pt x="54" y="54"/>
                      <a:pt x="105" y="46"/>
                      <a:pt x="158" y="34"/>
                    </a:cubicBezTo>
                    <a:cubicBezTo>
                      <a:pt x="185" y="28"/>
                      <a:pt x="212" y="15"/>
                      <a:pt x="240" y="13"/>
                    </a:cubicBezTo>
                    <a:cubicBezTo>
                      <a:pt x="401" y="0"/>
                      <a:pt x="382" y="0"/>
                      <a:pt x="466" y="0"/>
                    </a:cubicBez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154960" y="5344200"/>
                <a:ext cx="70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8000"/>
                    </a:solidFill>
                    <a:latin typeface="Tahoma"/>
                  </a:rPr>
                  <a:t>101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903440" y="3548520"/>
                <a:ext cx="70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8000"/>
                    </a:solidFill>
                    <a:latin typeface="Tahoma"/>
                  </a:rPr>
                  <a:t>101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982960" y="4267080"/>
                <a:ext cx="5051520" cy="1489320"/>
              </a:xfrm>
              <a:custGeom>
                <a:avLst/>
                <a:gdLst/>
                <a:ahLst/>
                <a:rect l="l" t="t" r="r" b="b"/>
                <a:pathLst>
                  <a:path w="3182" h="938">
                    <a:moveTo>
                      <a:pt x="0" y="816"/>
                    </a:moveTo>
                    <a:cubicBezTo>
                      <a:pt x="736" y="877"/>
                      <a:pt x="1472" y="938"/>
                      <a:pt x="2002" y="802"/>
                    </a:cubicBezTo>
                    <a:cubicBezTo>
                      <a:pt x="2532" y="666"/>
                      <a:pt x="2988" y="134"/>
                      <a:pt x="3182" y="0"/>
                    </a:cubicBezTo>
                  </a:path>
                </a:pathLst>
              </a:custGeom>
              <a:noFill/>
              <a:ln w="19080">
                <a:solidFill>
                  <a:srgbClr val="008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345360" y="4400640"/>
                <a:ext cx="739800" cy="96840"/>
              </a:xfrm>
              <a:custGeom>
                <a:avLst/>
                <a:gdLst/>
                <a:ahLst/>
                <a:rect l="l" t="t" r="r" b="b"/>
                <a:pathLst>
                  <a:path w="466" h="61">
                    <a:moveTo>
                      <a:pt x="0" y="61"/>
                    </a:moveTo>
                    <a:cubicBezTo>
                      <a:pt x="54" y="54"/>
                      <a:pt x="105" y="46"/>
                      <a:pt x="158" y="34"/>
                    </a:cubicBezTo>
                    <a:cubicBezTo>
                      <a:pt x="185" y="28"/>
                      <a:pt x="212" y="15"/>
                      <a:pt x="240" y="13"/>
                    </a:cubicBezTo>
                    <a:cubicBezTo>
                      <a:pt x="401" y="0"/>
                      <a:pt x="382" y="0"/>
                      <a:pt x="466" y="0"/>
                    </a:cubicBez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2023920" y="2797200"/>
              <a:ext cx="762120" cy="185760"/>
            </a:xfrm>
            <a:custGeom>
              <a:avLst/>
              <a:gdLst/>
              <a:ahLst/>
              <a:rect l="l" t="t" r="r" b="b"/>
              <a:pathLst>
                <a:path w="480" h="117">
                  <a:moveTo>
                    <a:pt x="0" y="117"/>
                  </a:moveTo>
                  <a:cubicBezTo>
                    <a:pt x="46" y="111"/>
                    <a:pt x="83" y="103"/>
                    <a:pt x="124" y="83"/>
                  </a:cubicBezTo>
                  <a:cubicBezTo>
                    <a:pt x="147" y="72"/>
                    <a:pt x="167" y="55"/>
                    <a:pt x="192" y="48"/>
                  </a:cubicBezTo>
                  <a:cubicBezTo>
                    <a:pt x="284" y="21"/>
                    <a:pt x="384" y="0"/>
                    <a:pt x="48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023920" y="3287880"/>
              <a:ext cx="762120" cy="185400"/>
            </a:xfrm>
            <a:custGeom>
              <a:avLst/>
              <a:gdLst/>
              <a:ahLst/>
              <a:rect l="l" t="t" r="r" b="b"/>
              <a:pathLst>
                <a:path w="480" h="117">
                  <a:moveTo>
                    <a:pt x="0" y="117"/>
                  </a:moveTo>
                  <a:cubicBezTo>
                    <a:pt x="46" y="111"/>
                    <a:pt x="83" y="103"/>
                    <a:pt x="124" y="83"/>
                  </a:cubicBezTo>
                  <a:cubicBezTo>
                    <a:pt x="147" y="72"/>
                    <a:pt x="167" y="55"/>
                    <a:pt x="192" y="48"/>
                  </a:cubicBezTo>
                  <a:cubicBezTo>
                    <a:pt x="284" y="21"/>
                    <a:pt x="384" y="0"/>
                    <a:pt x="48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871400" y="306900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ahoma"/>
                </a:rPr>
                <a:t>010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849080" y="262296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ahoma"/>
                </a:rPr>
                <a:t>010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DB90-C49A-4686-B30A-615DD3A09F6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750960" y="39736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U &gt; threshold then increa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nd may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title"/>
          </p:nvPr>
        </p:nvSpPr>
        <p:spPr>
          <a:xfrm>
            <a:off x="642960" y="566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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hen do we expand fil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"/>
          <p:cNvSpPr/>
          <p:nvPr/>
        </p:nvSpPr>
        <p:spPr>
          <a:xfrm>
            <a:off x="685800" y="1981080"/>
            <a:ext cx="653112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track of: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# used slo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# of slo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"/>
          <p:cNvSpPr/>
          <p:nvPr/>
        </p:nvSpPr>
        <p:spPr>
          <a:xfrm>
            <a:off x="7397640" y="2159640"/>
            <a:ext cx="81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6615-9070-4F44-8090-E5B7CA2838F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inear Hash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74640" y="1546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handle growing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with less wasted sp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with no full reorganiz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indirection like extensible has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608040" y="577800"/>
            <a:ext cx="21337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522360" y="169848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598320" y="4060800"/>
            <a:ext cx="38124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412920" y="5008680"/>
            <a:ext cx="7772400" cy="631800"/>
            <a:chOff x="412920" y="5008680"/>
            <a:chExt cx="7772400" cy="631800"/>
          </a:xfrm>
        </p:grpSpPr>
        <p:sp>
          <p:nvSpPr>
            <p:cNvPr id="608" name=""/>
            <p:cNvSpPr/>
            <p:nvPr/>
          </p:nvSpPr>
          <p:spPr>
            <a:xfrm>
              <a:off x="412920" y="5008680"/>
              <a:ext cx="777240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Can still have overflow chain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41520" y="5160960"/>
              <a:ext cx="34740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208A-E2AB-4180-BBDB-B68DFD47F0A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191120" y="34290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952880" y="312408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6486840" y="3951000"/>
            <a:ext cx="302760" cy="7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Two alterna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23623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391520" y="23623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29718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37339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5995800" y="3008880"/>
            <a:ext cx="127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6486840" y="2045880"/>
            <a:ext cx="302760" cy="7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>
            <a:off x="986400" y="3123360"/>
            <a:ext cx="31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1) ke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h(ke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9432-938A-46A8-8CAD-CAB591C7547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0040" y="391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xample: BAD C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emp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mo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ere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was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ac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"/>
          <p:cNvSpPr/>
          <p:nvPr/>
        </p:nvSpPr>
        <p:spPr>
          <a:xfrm>
            <a:off x="3886200" y="2666880"/>
            <a:ext cx="533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2362320" y="2666880"/>
            <a:ext cx="533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3124080" y="2666880"/>
            <a:ext cx="533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1600200" y="2666880"/>
            <a:ext cx="533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3886200" y="3352680"/>
            <a:ext cx="533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3886200" y="4114800"/>
            <a:ext cx="533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"/>
          <p:cNvSpPr/>
          <p:nvPr/>
        </p:nvSpPr>
        <p:spPr>
          <a:xfrm>
            <a:off x="3886200" y="4800600"/>
            <a:ext cx="533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"/>
          <p:cNvSpPr/>
          <p:nvPr/>
        </p:nvSpPr>
        <p:spPr>
          <a:xfrm>
            <a:off x="4648320" y="2666880"/>
            <a:ext cx="533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>
            <a:off x="5486400" y="2666880"/>
            <a:ext cx="533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6324480" y="2666880"/>
            <a:ext cx="533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7086600" y="2666880"/>
            <a:ext cx="533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"/>
          <p:cNvSpPr/>
          <p:nvPr/>
        </p:nvSpPr>
        <p:spPr>
          <a:xfrm rot="16200000">
            <a:off x="2400120" y="247608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"/>
          <p:cNvSpPr/>
          <p:nvPr/>
        </p:nvSpPr>
        <p:spPr>
          <a:xfrm flipV="1" rot="5400000">
            <a:off x="4114440" y="220968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"/>
          <p:cNvSpPr/>
          <p:nvPr/>
        </p:nvSpPr>
        <p:spPr>
          <a:xfrm>
            <a:off x="7108920" y="3386160"/>
            <a:ext cx="903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057D-D06E-430B-8BA4-0CCD7EF66C0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Has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How it wor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Dynamic has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Extens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Line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685800" y="838080"/>
            <a:ext cx="2362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2BFE-A356-4021-A5E3-74B09484E9B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Next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xing vs Has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x definition in SQ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key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6D7C-98CF-4319-B9B5-45F7796987B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hing good for probes given k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R.A = 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304920" y="838080"/>
            <a:ext cx="50292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dexing vs Hash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8295-BCAD-47E3-A162-40346BC46C59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XING (Including B Trees) goo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nge Search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R.A &gt; 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304920" y="838080"/>
            <a:ext cx="50292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dexing vs Hash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9AE3-5016-4566-8D52-20CEC89D0458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Index definition in SQ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Crea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ndex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l (att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Crea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nde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am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l (att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"/>
          <p:cNvSpPr/>
          <p:nvPr/>
        </p:nvSpPr>
        <p:spPr>
          <a:xfrm>
            <a:off x="3786120" y="3427560"/>
            <a:ext cx="42022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candidate k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"/>
          <p:cNvSpPr/>
          <p:nvPr/>
        </p:nvSpPr>
        <p:spPr>
          <a:xfrm>
            <a:off x="2949480" y="3135240"/>
            <a:ext cx="0" cy="64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>
            <a:off x="2960640" y="377676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860400" y="4560840"/>
            <a:ext cx="385272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Drop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X 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88F3-6CE6-47B3-89F8-428B34C117C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/>
          </p:nvPr>
        </p:nvSpPr>
        <p:spPr>
          <a:xfrm>
            <a:off x="598320" y="511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SPECIFY TYPE OF IND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 B-tree, Hashing,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PARAME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 Load Factor, Size of Hash,..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. at least in SQL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739800" y="544680"/>
            <a:ext cx="990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E852-F077-4409-91E1-A08248F76D22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347400" y="663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RIBU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LTIKEY IND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nex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CREA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NDE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(A,B,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358920" y="730080"/>
            <a:ext cx="9903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BEB0-01AA-4197-A157-0DA154E6A4AE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52320" y="1817640"/>
            <a:ext cx="803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Find record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T = “Toy” AND SAL &gt; 50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762120" y="762120"/>
            <a:ext cx="34290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ulti-key Inde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0BD2-5414-4790-8661-597D10BB589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Strategy I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63480" y="1752120"/>
            <a:ext cx="777240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ne index, say Dep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t all Dept = “Toy” recor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and check their sal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 rot="2475600">
            <a:off x="3646080" y="4048200"/>
            <a:ext cx="1066680" cy="121896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3744360" y="4466160"/>
            <a:ext cx="4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2808360" y="48099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4179960" y="3776400"/>
            <a:ext cx="565200" cy="34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"/>
          <p:cNvSpPr/>
          <p:nvPr/>
        </p:nvSpPr>
        <p:spPr>
          <a:xfrm>
            <a:off x="4200480" y="4321080"/>
            <a:ext cx="63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"/>
          <p:cNvSpPr/>
          <p:nvPr/>
        </p:nvSpPr>
        <p:spPr>
          <a:xfrm>
            <a:off x="4179960" y="5114880"/>
            <a:ext cx="565200" cy="23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179960" y="5343480"/>
            <a:ext cx="55548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4189320" y="4581360"/>
            <a:ext cx="63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F6A9-12A3-4699-8629-F964837E923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"/>
          <p:cNvSpPr/>
          <p:nvPr/>
        </p:nvSpPr>
        <p:spPr>
          <a:xfrm>
            <a:off x="4203720" y="293364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965480" y="2629080"/>
            <a:ext cx="75960" cy="304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5041800" y="2629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881640" y="2577240"/>
            <a:ext cx="31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2) ke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h(ke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5628240" y="39232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5651640" y="20192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"/>
          <p:cNvSpPr/>
          <p:nvPr/>
        </p:nvSpPr>
        <p:spPr>
          <a:xfrm>
            <a:off x="6566040" y="20192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7327800" y="20192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8318520" y="20192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7327800" y="2324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"/>
          <p:cNvSpPr/>
          <p:nvPr/>
        </p:nvSpPr>
        <p:spPr>
          <a:xfrm>
            <a:off x="7327800" y="2781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7264440" y="236124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5651640" y="2171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5651640" y="32385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5651640" y="30099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5651640" y="270504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5651640" y="2400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5721840" y="2628000"/>
            <a:ext cx="8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y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6464160" y="238752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533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Two alterna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00280" y="4927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 (2) for “secondary” search k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7C77-80CF-4646-88AA-3D0A5748080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2 Indexes; Manipulate Poin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50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Strategy II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1981080" y="32004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2286000" y="32004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3200400" y="32004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2895480" y="32004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2590920" y="3200400"/>
            <a:ext cx="3045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"/>
          <p:cNvSpPr/>
          <p:nvPr/>
        </p:nvSpPr>
        <p:spPr>
          <a:xfrm>
            <a:off x="4114800" y="32004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"/>
          <p:cNvSpPr/>
          <p:nvPr/>
        </p:nvSpPr>
        <p:spPr>
          <a:xfrm>
            <a:off x="4419720" y="3200400"/>
            <a:ext cx="3045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"/>
          <p:cNvSpPr/>
          <p:nvPr/>
        </p:nvSpPr>
        <p:spPr>
          <a:xfrm>
            <a:off x="4724280" y="32004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"/>
          <p:cNvSpPr/>
          <p:nvPr/>
        </p:nvSpPr>
        <p:spPr>
          <a:xfrm>
            <a:off x="5029200" y="32004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"/>
          <p:cNvSpPr/>
          <p:nvPr/>
        </p:nvSpPr>
        <p:spPr>
          <a:xfrm>
            <a:off x="5334120" y="3200400"/>
            <a:ext cx="3045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5638680" y="32004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943600" y="32004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3200400"/>
            <a:ext cx="3045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6705720" y="3429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152388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3449-A67A-4DF6-A199-967C188AAF3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Key Ind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idea: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Strategy III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 rot="2475600">
            <a:off x="3200040" y="3276720"/>
            <a:ext cx="1066680" cy="121896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 rot="2475600">
            <a:off x="4741560" y="2420640"/>
            <a:ext cx="577800" cy="64764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 rot="2475600">
            <a:off x="4723920" y="3504960"/>
            <a:ext cx="577800" cy="64764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3298320" y="3694680"/>
            <a:ext cx="4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4652280" y="2589840"/>
            <a:ext cx="4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4652280" y="3580200"/>
            <a:ext cx="4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"/>
          <p:cNvSpPr/>
          <p:nvPr/>
        </p:nvSpPr>
        <p:spPr>
          <a:xfrm>
            <a:off x="236232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3733920" y="2819160"/>
            <a:ext cx="8380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"/>
          <p:cNvSpPr/>
          <p:nvPr/>
        </p:nvSpPr>
        <p:spPr>
          <a:xfrm>
            <a:off x="3733920" y="3886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3733920" y="43434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3733920" y="457200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5029200" y="2514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5029200" y="2743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5029200" y="3505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99B7-2C32-4661-A09F-2926C46882D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o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l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553080" y="3124080"/>
            <a:ext cx="198144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=Jo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T=S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L=15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762120" y="2057400"/>
            <a:ext cx="1295280" cy="1219320"/>
            <a:chOff x="762120" y="2057400"/>
            <a:chExt cx="1295280" cy="1219320"/>
          </a:xfrm>
        </p:grpSpPr>
        <p:sp>
          <p:nvSpPr>
            <p:cNvPr id="695" name=""/>
            <p:cNvSpPr/>
            <p:nvPr/>
          </p:nvSpPr>
          <p:spPr>
            <a:xfrm>
              <a:off x="762120" y="2057400"/>
              <a:ext cx="9903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r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62120" y="2362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ale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62120" y="2666880"/>
              <a:ext cx="9903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oy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62120" y="2971800"/>
              <a:ext cx="9903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752480" y="20574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752480" y="2362320"/>
              <a:ext cx="3049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752480" y="26668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752480" y="29718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62120" y="23623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62120" y="23623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3429000" y="1447920"/>
            <a:ext cx="990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>
            <a:off x="3429000" y="1752480"/>
            <a:ext cx="990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>
            <a:off x="3429000" y="2057400"/>
            <a:ext cx="990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7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3429000" y="2362320"/>
            <a:ext cx="990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1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4419720" y="14479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4419720" y="1752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4419720" y="20574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4419720" y="23623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3429000" y="1752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"/>
          <p:cNvSpPr/>
          <p:nvPr/>
        </p:nvSpPr>
        <p:spPr>
          <a:xfrm>
            <a:off x="3429000" y="1752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3429000"/>
            <a:ext cx="990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"/>
          <p:cNvSpPr/>
          <p:nvPr/>
        </p:nvSpPr>
        <p:spPr>
          <a:xfrm>
            <a:off x="3429000" y="3733920"/>
            <a:ext cx="990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3429000" y="4038480"/>
            <a:ext cx="990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3429000" y="4343400"/>
            <a:ext cx="990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4419720" y="3429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4419720" y="37339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4419720" y="4038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4419720" y="43434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3429000" y="3733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3429000" y="3733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1905120" y="2819520"/>
            <a:ext cx="114300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"/>
          <p:cNvSpPr/>
          <p:nvPr/>
        </p:nvSpPr>
        <p:spPr>
          <a:xfrm>
            <a:off x="1905120" y="2514600"/>
            <a:ext cx="14475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1981080" y="1599840"/>
            <a:ext cx="1295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4648320" y="12193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4648320" y="152352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4648320" y="18288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4648320" y="32004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4572000" y="38862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572000" y="41911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572000" y="44956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D188-AF3A-4C2E-8B27-43A32AFA495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or which queries is this index goo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012680" y="1980720"/>
            <a:ext cx="7772400" cy="24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RECs Dept = “Sales”      SAL=20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RECs Dept = “Sales”      SA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20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RECs Dept = “Sale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RECs SAL = 20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5943600" y="21333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6095880" y="21337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5943600" y="274284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>
            <a:off x="6095880" y="27432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708120" y="3895560"/>
            <a:ext cx="261720" cy="250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706320" y="3308400"/>
            <a:ext cx="262080" cy="250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696960" y="2709720"/>
            <a:ext cx="261720" cy="250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719280" y="2144880"/>
            <a:ext cx="261720" cy="250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D600-4F87-4858-9772-E0CC07975B4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Interesting application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ographic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ttribut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Attribut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1981080" y="27428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"/>
          <p:cNvSpPr/>
          <p:nvPr/>
        </p:nvSpPr>
        <p:spPr>
          <a:xfrm>
            <a:off x="1981080" y="4267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"/>
          <p:cNvSpPr/>
          <p:nvPr/>
        </p:nvSpPr>
        <p:spPr>
          <a:xfrm>
            <a:off x="1981080" y="3733920"/>
            <a:ext cx="6098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3868200" y="445680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1444680" y="2742120"/>
            <a:ext cx="3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895480" y="2971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505320" y="37339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3200400" y="3276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3798720" y="31352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2548080" y="36799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295360" y="3330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 rot="16200000">
            <a:off x="5775480" y="4929120"/>
            <a:ext cx="5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954B-72D7-419F-89FD-AB255BC0438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Queries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city is at &lt;Xi,Yi&gt;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within 5 miles from &lt;Xi,Yi&gt;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is closest point to &lt;Xi,Yi&gt;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88A5-254B-4A33-A264-6DB62D33F35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5486400" y="445680"/>
            <a:ext cx="0" cy="272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5486400" y="3168720"/>
            <a:ext cx="313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5683320" y="938880"/>
            <a:ext cx="436320" cy="398880"/>
            <a:chOff x="5683320" y="938880"/>
            <a:chExt cx="436320" cy="398880"/>
          </a:xfrm>
        </p:grpSpPr>
        <p:sp>
          <p:nvSpPr>
            <p:cNvPr id="766" name=""/>
            <p:cNvSpPr/>
            <p:nvPr/>
          </p:nvSpPr>
          <p:spPr>
            <a:xfrm>
              <a:off x="5683320" y="11761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781960" y="93888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6075360" y="1434240"/>
            <a:ext cx="436320" cy="398880"/>
            <a:chOff x="6075360" y="1434240"/>
            <a:chExt cx="436320" cy="398880"/>
          </a:xfrm>
        </p:grpSpPr>
        <p:sp>
          <p:nvSpPr>
            <p:cNvPr id="769" name=""/>
            <p:cNvSpPr/>
            <p:nvPr/>
          </p:nvSpPr>
          <p:spPr>
            <a:xfrm>
              <a:off x="6075360" y="16714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174000" y="143424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7804080" y="1207080"/>
            <a:ext cx="435600" cy="398880"/>
            <a:chOff x="7804080" y="1207080"/>
            <a:chExt cx="435600" cy="398880"/>
          </a:xfrm>
        </p:grpSpPr>
        <p:sp>
          <p:nvSpPr>
            <p:cNvPr id="772" name=""/>
            <p:cNvSpPr/>
            <p:nvPr/>
          </p:nvSpPr>
          <p:spPr>
            <a:xfrm>
              <a:off x="7804080" y="14443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902000" y="120708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6064200" y="586440"/>
            <a:ext cx="389160" cy="398880"/>
            <a:chOff x="6064200" y="586440"/>
            <a:chExt cx="389160" cy="398880"/>
          </a:xfrm>
        </p:grpSpPr>
        <p:sp>
          <p:nvSpPr>
            <p:cNvPr id="775" name=""/>
            <p:cNvSpPr/>
            <p:nvPr/>
          </p:nvSpPr>
          <p:spPr>
            <a:xfrm>
              <a:off x="6064200" y="8236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207120" y="586440"/>
              <a:ext cx="24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7999560" y="432360"/>
            <a:ext cx="428760" cy="398880"/>
            <a:chOff x="7999560" y="432360"/>
            <a:chExt cx="428760" cy="398880"/>
          </a:xfrm>
        </p:grpSpPr>
        <p:sp>
          <p:nvSpPr>
            <p:cNvPr id="778" name=""/>
            <p:cNvSpPr/>
            <p:nvPr/>
          </p:nvSpPr>
          <p:spPr>
            <a:xfrm>
              <a:off x="7999560" y="66960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104320" y="4323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80" name=""/>
          <p:cNvGrpSpPr/>
          <p:nvPr/>
        </p:nvGrpSpPr>
        <p:grpSpPr>
          <a:xfrm>
            <a:off x="7794720" y="1967400"/>
            <a:ext cx="417960" cy="398880"/>
            <a:chOff x="7794720" y="1967400"/>
            <a:chExt cx="417960" cy="398880"/>
          </a:xfrm>
        </p:grpSpPr>
        <p:sp>
          <p:nvSpPr>
            <p:cNvPr id="781" name=""/>
            <p:cNvSpPr/>
            <p:nvPr/>
          </p:nvSpPr>
          <p:spPr>
            <a:xfrm>
              <a:off x="7794720" y="22046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909920" y="1967400"/>
              <a:ext cx="30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6205680" y="1870560"/>
            <a:ext cx="433440" cy="398880"/>
            <a:chOff x="6205680" y="1870560"/>
            <a:chExt cx="433440" cy="398880"/>
          </a:xfrm>
        </p:grpSpPr>
        <p:sp>
          <p:nvSpPr>
            <p:cNvPr id="784" name=""/>
            <p:cNvSpPr/>
            <p:nvPr/>
          </p:nvSpPr>
          <p:spPr>
            <a:xfrm>
              <a:off x="6205680" y="210780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04320" y="1870560"/>
              <a:ext cx="33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7095960" y="605520"/>
            <a:ext cx="435600" cy="398880"/>
            <a:chOff x="7095960" y="605520"/>
            <a:chExt cx="435600" cy="398880"/>
          </a:xfrm>
        </p:grpSpPr>
        <p:sp>
          <p:nvSpPr>
            <p:cNvPr id="787" name=""/>
            <p:cNvSpPr/>
            <p:nvPr/>
          </p:nvSpPr>
          <p:spPr>
            <a:xfrm>
              <a:off x="7095960" y="84276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193880" y="60552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1871280" y="623880"/>
            <a:ext cx="5839920" cy="3079440"/>
            <a:chOff x="1871280" y="623880"/>
            <a:chExt cx="5839920" cy="3079440"/>
          </a:xfrm>
        </p:grpSpPr>
        <p:sp>
          <p:nvSpPr>
            <p:cNvPr id="790" name=""/>
            <p:cNvSpPr/>
            <p:nvPr/>
          </p:nvSpPr>
          <p:spPr>
            <a:xfrm>
              <a:off x="2328840" y="1306440"/>
              <a:ext cx="17524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10      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553080" y="623880"/>
              <a:ext cx="0" cy="2544840"/>
            </a:xfrm>
            <a:prstGeom prst="line">
              <a:avLst/>
            </a:prstGeom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467480" y="655560"/>
              <a:ext cx="0" cy="2513160"/>
            </a:xfrm>
            <a:prstGeom prst="line">
              <a:avLst/>
            </a:prstGeom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1871280" y="1839960"/>
              <a:ext cx="609480" cy="533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166920" y="1763640"/>
              <a:ext cx="0" cy="6098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852720" y="1839960"/>
              <a:ext cx="381240" cy="533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360120" y="3243600"/>
              <a:ext cx="13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10      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97" name=""/>
          <p:cNvSpPr/>
          <p:nvPr/>
        </p:nvSpPr>
        <p:spPr>
          <a:xfrm>
            <a:off x="241200" y="176040"/>
            <a:ext cx="2241720" cy="6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"/>
          <p:cNvSpPr/>
          <p:nvPr/>
        </p:nvSpPr>
        <p:spPr>
          <a:xfrm>
            <a:off x="5410080" y="2568600"/>
            <a:ext cx="1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5421240" y="1969920"/>
            <a:ext cx="1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5398920" y="1371600"/>
            <a:ext cx="1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5410080" y="773280"/>
            <a:ext cx="1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6684840" y="683280"/>
            <a:ext cx="426960" cy="398880"/>
            <a:chOff x="6684840" y="683280"/>
            <a:chExt cx="426960" cy="398880"/>
          </a:xfrm>
        </p:grpSpPr>
        <p:sp>
          <p:nvSpPr>
            <p:cNvPr id="803" name=""/>
            <p:cNvSpPr/>
            <p:nvPr/>
          </p:nvSpPr>
          <p:spPr>
            <a:xfrm>
              <a:off x="6684840" y="9205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787800" y="68328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6770520" y="2502720"/>
            <a:ext cx="433800" cy="398880"/>
            <a:chOff x="6770520" y="2502720"/>
            <a:chExt cx="433800" cy="398880"/>
          </a:xfrm>
        </p:grpSpPr>
        <p:sp>
          <p:nvSpPr>
            <p:cNvPr id="806" name=""/>
            <p:cNvSpPr/>
            <p:nvPr/>
          </p:nvSpPr>
          <p:spPr>
            <a:xfrm>
              <a:off x="6770520" y="27399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866640" y="250272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6673680" y="1500840"/>
            <a:ext cx="399600" cy="398880"/>
            <a:chOff x="6673680" y="1500840"/>
            <a:chExt cx="399600" cy="398880"/>
          </a:xfrm>
        </p:grpSpPr>
        <p:sp>
          <p:nvSpPr>
            <p:cNvPr id="809" name=""/>
            <p:cNvSpPr/>
            <p:nvPr/>
          </p:nvSpPr>
          <p:spPr>
            <a:xfrm>
              <a:off x="6673680" y="17380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805800" y="1500840"/>
              <a:ext cx="26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6151680" y="2677320"/>
            <a:ext cx="474120" cy="398880"/>
            <a:chOff x="6151680" y="2677320"/>
            <a:chExt cx="474120" cy="398880"/>
          </a:xfrm>
        </p:grpSpPr>
        <p:sp>
          <p:nvSpPr>
            <p:cNvPr id="812" name=""/>
            <p:cNvSpPr/>
            <p:nvPr/>
          </p:nvSpPr>
          <p:spPr>
            <a:xfrm>
              <a:off x="6151680" y="29145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207480" y="2677320"/>
              <a:ext cx="4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5530680" y="1848600"/>
            <a:ext cx="389160" cy="398880"/>
            <a:chOff x="5530680" y="1848600"/>
            <a:chExt cx="389160" cy="398880"/>
          </a:xfrm>
        </p:grpSpPr>
        <p:sp>
          <p:nvSpPr>
            <p:cNvPr id="815" name=""/>
            <p:cNvSpPr/>
            <p:nvPr/>
          </p:nvSpPr>
          <p:spPr>
            <a:xfrm>
              <a:off x="5530680" y="20858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673600" y="1848600"/>
              <a:ext cx="24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5618160" y="2774160"/>
            <a:ext cx="423360" cy="398880"/>
            <a:chOff x="5618160" y="2774160"/>
            <a:chExt cx="423360" cy="398880"/>
          </a:xfrm>
        </p:grpSpPr>
        <p:sp>
          <p:nvSpPr>
            <p:cNvPr id="818" name=""/>
            <p:cNvSpPr/>
            <p:nvPr/>
          </p:nvSpPr>
          <p:spPr>
            <a:xfrm>
              <a:off x="5618160" y="30114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725080" y="2774160"/>
              <a:ext cx="31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5562720" y="2427840"/>
            <a:ext cx="388800" cy="398880"/>
            <a:chOff x="5562720" y="2427840"/>
            <a:chExt cx="388800" cy="398880"/>
          </a:xfrm>
        </p:grpSpPr>
        <p:sp>
          <p:nvSpPr>
            <p:cNvPr id="821" name=""/>
            <p:cNvSpPr/>
            <p:nvPr/>
          </p:nvSpPr>
          <p:spPr>
            <a:xfrm>
              <a:off x="5562720" y="26650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705280" y="2427840"/>
              <a:ext cx="24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598320" y="554400"/>
            <a:ext cx="7805880" cy="2972880"/>
            <a:chOff x="598320" y="554400"/>
            <a:chExt cx="7805880" cy="2972880"/>
          </a:xfrm>
        </p:grpSpPr>
        <p:sp>
          <p:nvSpPr>
            <p:cNvPr id="824" name=""/>
            <p:cNvSpPr/>
            <p:nvPr/>
          </p:nvSpPr>
          <p:spPr>
            <a:xfrm>
              <a:off x="1109520" y="2449440"/>
              <a:ext cx="9144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481120" y="2449440"/>
              <a:ext cx="103536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15  3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776760" y="2449440"/>
              <a:ext cx="99036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564240" y="2297160"/>
              <a:ext cx="91440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489800" y="1971720"/>
              <a:ext cx="91440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519880" y="1689120"/>
              <a:ext cx="99036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553080" y="1187280"/>
              <a:ext cx="91440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930200" y="5544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939920" y="11196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951080" y="17182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973040" y="234036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973680" y="2830680"/>
              <a:ext cx="369720" cy="663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594320" y="2789280"/>
              <a:ext cx="522360" cy="730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48080" y="2830680"/>
              <a:ext cx="163440" cy="69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2959200" y="2906640"/>
              <a:ext cx="55440" cy="587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2286000" y="2841480"/>
              <a:ext cx="262080" cy="675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598320" y="2830680"/>
              <a:ext cx="663840" cy="66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1585440" y="2765520"/>
              <a:ext cx="219240" cy="728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216000" y="3516480"/>
            <a:ext cx="5367240" cy="2949480"/>
            <a:chOff x="216000" y="3516480"/>
            <a:chExt cx="5367240" cy="2949480"/>
          </a:xfrm>
        </p:grpSpPr>
        <p:sp>
          <p:nvSpPr>
            <p:cNvPr id="843" name=""/>
            <p:cNvSpPr/>
            <p:nvPr/>
          </p:nvSpPr>
          <p:spPr>
            <a:xfrm>
              <a:off x="1152360" y="3525840"/>
              <a:ext cx="784440" cy="6969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ahoma"/>
                </a:rPr>
                <a:t>h  i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799160" y="3538440"/>
              <a:ext cx="784080" cy="6969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ahoma"/>
                </a:rPr>
                <a:t>a  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189320" y="3529080"/>
              <a:ext cx="501840" cy="6969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317760" y="3516480"/>
              <a:ext cx="784440" cy="696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ahoma"/>
                </a:rPr>
                <a:t>d  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676600" y="3529080"/>
              <a:ext cx="522360" cy="6969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ahoma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065320" y="3527280"/>
              <a:ext cx="468360" cy="6969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ahoma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665440" y="5595840"/>
              <a:ext cx="784080" cy="6969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ahoma"/>
                </a:rPr>
                <a:t>n  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935000" y="5599080"/>
              <a:ext cx="501840" cy="6969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ahoma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227240" y="5605560"/>
              <a:ext cx="458640" cy="6969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ahoma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16000" y="5599080"/>
              <a:ext cx="750960" cy="6969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ahoma"/>
                </a:rPr>
                <a:t>j  k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367240" y="4092480"/>
              <a:ext cx="0" cy="2826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85800" y="6172200"/>
              <a:ext cx="0" cy="2826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469880" y="6183360"/>
              <a:ext cx="0" cy="2826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220840" y="6181560"/>
              <a:ext cx="0" cy="2826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895480" y="6183360"/>
              <a:ext cx="0" cy="2826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243240" y="6170760"/>
              <a:ext cx="0" cy="2826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63640" y="4060800"/>
              <a:ext cx="149400" cy="3160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1309320" y="4106880"/>
              <a:ext cx="74520" cy="3049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319480" y="4092480"/>
              <a:ext cx="542880" cy="3812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003480" y="4070520"/>
              <a:ext cx="130320" cy="3697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559320" y="4070520"/>
              <a:ext cx="0" cy="2822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908520" y="4081320"/>
              <a:ext cx="0" cy="2826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452840" y="4059360"/>
              <a:ext cx="0" cy="2826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008680" y="4103640"/>
              <a:ext cx="0" cy="2826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25520" y="6173640"/>
              <a:ext cx="0" cy="2826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4660200" y="1154160"/>
            <a:ext cx="4190040" cy="4548240"/>
            <a:chOff x="4660200" y="1154160"/>
            <a:chExt cx="4190040" cy="4548240"/>
          </a:xfrm>
        </p:grpSpPr>
        <p:sp>
          <p:nvSpPr>
            <p:cNvPr id="869" name=""/>
            <p:cNvSpPr/>
            <p:nvPr/>
          </p:nvSpPr>
          <p:spPr>
            <a:xfrm>
              <a:off x="4660200" y="4876920"/>
              <a:ext cx="3326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arch points near f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arch points near 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413400" y="1457280"/>
              <a:ext cx="608040" cy="565200"/>
            </a:xfrm>
            <a:prstGeom prst="ellipse">
              <a:avLst/>
            </a:prstGeom>
            <a:noFill/>
            <a:ln w="381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588080" y="1154160"/>
              <a:ext cx="608040" cy="574560"/>
            </a:xfrm>
            <a:prstGeom prst="ellipse">
              <a:avLst/>
            </a:prstGeom>
            <a:noFill/>
            <a:ln w="381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999120" y="1947960"/>
              <a:ext cx="1184400" cy="3157560"/>
            </a:xfrm>
            <a:custGeom>
              <a:avLst/>
              <a:gdLst/>
              <a:ahLst/>
              <a:rect l="l" t="t" r="r" b="b"/>
              <a:pathLst>
                <a:path w="746" h="1989">
                  <a:moveTo>
                    <a:pt x="514" y="1989"/>
                  </a:moveTo>
                  <a:cubicBezTo>
                    <a:pt x="546" y="1978"/>
                    <a:pt x="583" y="1934"/>
                    <a:pt x="604" y="1907"/>
                  </a:cubicBezTo>
                  <a:cubicBezTo>
                    <a:pt x="618" y="1869"/>
                    <a:pt x="637" y="1834"/>
                    <a:pt x="652" y="1797"/>
                  </a:cubicBezTo>
                  <a:cubicBezTo>
                    <a:pt x="660" y="1778"/>
                    <a:pt x="679" y="1742"/>
                    <a:pt x="679" y="1742"/>
                  </a:cubicBezTo>
                  <a:cubicBezTo>
                    <a:pt x="691" y="1683"/>
                    <a:pt x="707" y="1621"/>
                    <a:pt x="727" y="1564"/>
                  </a:cubicBezTo>
                  <a:cubicBezTo>
                    <a:pt x="746" y="1376"/>
                    <a:pt x="744" y="1191"/>
                    <a:pt x="734" y="1002"/>
                  </a:cubicBezTo>
                  <a:cubicBezTo>
                    <a:pt x="730" y="921"/>
                    <a:pt x="655" y="760"/>
                    <a:pt x="604" y="700"/>
                  </a:cubicBezTo>
                  <a:cubicBezTo>
                    <a:pt x="596" y="691"/>
                    <a:pt x="584" y="688"/>
                    <a:pt x="576" y="679"/>
                  </a:cubicBezTo>
                  <a:cubicBezTo>
                    <a:pt x="561" y="662"/>
                    <a:pt x="549" y="642"/>
                    <a:pt x="535" y="624"/>
                  </a:cubicBezTo>
                  <a:cubicBezTo>
                    <a:pt x="492" y="567"/>
                    <a:pt x="439" y="518"/>
                    <a:pt x="398" y="460"/>
                  </a:cubicBezTo>
                  <a:cubicBezTo>
                    <a:pt x="351" y="393"/>
                    <a:pt x="301" y="330"/>
                    <a:pt x="247" y="268"/>
                  </a:cubicBezTo>
                  <a:cubicBezTo>
                    <a:pt x="231" y="249"/>
                    <a:pt x="222" y="225"/>
                    <a:pt x="206" y="206"/>
                  </a:cubicBezTo>
                  <a:cubicBezTo>
                    <a:pt x="151" y="144"/>
                    <a:pt x="192" y="214"/>
                    <a:pt x="144" y="151"/>
                  </a:cubicBezTo>
                  <a:cubicBezTo>
                    <a:pt x="100" y="93"/>
                    <a:pt x="51" y="51"/>
                    <a:pt x="0" y="0"/>
                  </a:cubicBezTo>
                </a:path>
              </a:pathLst>
            </a:custGeom>
            <a:noFill/>
            <a:ln w="9360">
              <a:solidFill>
                <a:srgbClr val="ff66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870680" y="1557360"/>
              <a:ext cx="979560" cy="3940200"/>
            </a:xfrm>
            <a:custGeom>
              <a:avLst/>
              <a:gdLst/>
              <a:ahLst/>
              <a:rect l="l" t="t" r="r" b="b"/>
              <a:pathLst>
                <a:path w="617" h="2482">
                  <a:moveTo>
                    <a:pt x="0" y="2482"/>
                  </a:moveTo>
                  <a:cubicBezTo>
                    <a:pt x="51" y="2475"/>
                    <a:pt x="83" y="2456"/>
                    <a:pt x="130" y="2448"/>
                  </a:cubicBezTo>
                  <a:cubicBezTo>
                    <a:pt x="176" y="2429"/>
                    <a:pt x="212" y="2400"/>
                    <a:pt x="247" y="2365"/>
                  </a:cubicBezTo>
                  <a:cubicBezTo>
                    <a:pt x="269" y="2320"/>
                    <a:pt x="254" y="2347"/>
                    <a:pt x="295" y="2290"/>
                  </a:cubicBezTo>
                  <a:cubicBezTo>
                    <a:pt x="302" y="2281"/>
                    <a:pt x="315" y="2262"/>
                    <a:pt x="315" y="2262"/>
                  </a:cubicBezTo>
                  <a:cubicBezTo>
                    <a:pt x="333" y="2210"/>
                    <a:pt x="359" y="2163"/>
                    <a:pt x="377" y="2112"/>
                  </a:cubicBezTo>
                  <a:cubicBezTo>
                    <a:pt x="387" y="2085"/>
                    <a:pt x="404" y="2029"/>
                    <a:pt x="404" y="2029"/>
                  </a:cubicBezTo>
                  <a:cubicBezTo>
                    <a:pt x="411" y="1981"/>
                    <a:pt x="423" y="1938"/>
                    <a:pt x="439" y="1892"/>
                  </a:cubicBezTo>
                  <a:cubicBezTo>
                    <a:pt x="454" y="1750"/>
                    <a:pt x="484" y="1594"/>
                    <a:pt x="535" y="1460"/>
                  </a:cubicBezTo>
                  <a:cubicBezTo>
                    <a:pt x="554" y="1304"/>
                    <a:pt x="585" y="1148"/>
                    <a:pt x="617" y="994"/>
                  </a:cubicBezTo>
                  <a:cubicBezTo>
                    <a:pt x="615" y="898"/>
                    <a:pt x="614" y="802"/>
                    <a:pt x="610" y="706"/>
                  </a:cubicBezTo>
                  <a:cubicBezTo>
                    <a:pt x="606" y="608"/>
                    <a:pt x="539" y="519"/>
                    <a:pt x="500" y="432"/>
                  </a:cubicBezTo>
                  <a:cubicBezTo>
                    <a:pt x="480" y="387"/>
                    <a:pt x="464" y="337"/>
                    <a:pt x="439" y="294"/>
                  </a:cubicBezTo>
                  <a:cubicBezTo>
                    <a:pt x="409" y="241"/>
                    <a:pt x="376" y="188"/>
                    <a:pt x="343" y="137"/>
                  </a:cubicBezTo>
                  <a:cubicBezTo>
                    <a:pt x="332" y="120"/>
                    <a:pt x="316" y="107"/>
                    <a:pt x="308" y="89"/>
                  </a:cubicBezTo>
                  <a:cubicBezTo>
                    <a:pt x="295" y="61"/>
                    <a:pt x="275" y="35"/>
                    <a:pt x="253" y="13"/>
                  </a:cubicBezTo>
                  <a:cubicBezTo>
                    <a:pt x="247" y="7"/>
                    <a:pt x="233" y="0"/>
                    <a:pt x="233" y="0"/>
                  </a:cubicBezTo>
                </a:path>
              </a:pathLst>
            </a:custGeom>
            <a:noFill/>
            <a:ln w="9360">
              <a:solidFill>
                <a:srgbClr val="ff66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411120" y="1698480"/>
            <a:ext cx="6141960" cy="3899160"/>
            <a:chOff x="411120" y="1698480"/>
            <a:chExt cx="6141960" cy="3899160"/>
          </a:xfrm>
        </p:grpSpPr>
        <p:sp>
          <p:nvSpPr>
            <p:cNvPr id="875" name=""/>
            <p:cNvSpPr/>
            <p:nvPr/>
          </p:nvSpPr>
          <p:spPr>
            <a:xfrm>
              <a:off x="411120" y="3505320"/>
              <a:ext cx="6094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040" y="4700520"/>
              <a:ext cx="6094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736640" y="4680000"/>
              <a:ext cx="60984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488880" y="5030640"/>
              <a:ext cx="270000" cy="522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171440" y="5051520"/>
              <a:ext cx="263520" cy="54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836720" y="5018040"/>
              <a:ext cx="154080" cy="534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260440" y="4997520"/>
              <a:ext cx="533520" cy="600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30280" y="3854520"/>
              <a:ext cx="280800" cy="8157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031080" y="1698480"/>
              <a:ext cx="0" cy="1470240"/>
            </a:xfrm>
            <a:prstGeom prst="line">
              <a:avLst/>
            </a:prstGeom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486400" y="2297160"/>
              <a:ext cx="106668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92080" y="3875040"/>
              <a:ext cx="916200" cy="773280"/>
            </a:xfrm>
            <a:custGeom>
              <a:avLst/>
              <a:gdLst/>
              <a:ahLst/>
              <a:rect l="l" t="t" r="r" b="b"/>
              <a:pathLst>
                <a:path w="563" h="350">
                  <a:moveTo>
                    <a:pt x="0" y="0"/>
                  </a:moveTo>
                  <a:cubicBezTo>
                    <a:pt x="31" y="121"/>
                    <a:pt x="63" y="243"/>
                    <a:pt x="144" y="288"/>
                  </a:cubicBezTo>
                  <a:cubicBezTo>
                    <a:pt x="225" y="333"/>
                    <a:pt x="417" y="258"/>
                    <a:pt x="487" y="268"/>
                  </a:cubicBezTo>
                  <a:cubicBezTo>
                    <a:pt x="557" y="278"/>
                    <a:pt x="560" y="314"/>
                    <a:pt x="563" y="35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EB31-3A6D-401C-827C-7035B4F032EF}" type="slidenum">
              <a:t>4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Queri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points with Yi &gt; 2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points with Xi &lt; 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points “close” to i = &lt;12,38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points “close” to b = &lt;7,24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DEC1-F423-410B-A4FD-9BA99F76E44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/>
          </p:nvPr>
        </p:nvSpPr>
        <p:spPr>
          <a:xfrm>
            <a:off x="355680" y="863640"/>
            <a:ext cx="811512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types of geographic index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s have been sugg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-Trees (very similar to what we described he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d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DB37-1B79-4E46-BB41-706F71529AF7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Two more types of multi key index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tioned ha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9C0B-D5EA-452E-907E-B0EF3437D83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Example hash fun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9432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y = ‘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 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’ 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yte character st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uck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:  add 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.. 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sum modul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0B5E-B95D-4751-909B-71019E986A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36320" y="250560"/>
            <a:ext cx="273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Grid Inde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20640" y="1133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y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…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y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3" name=""/>
          <p:cNvSpPr/>
          <p:nvPr/>
        </p:nvSpPr>
        <p:spPr>
          <a:xfrm>
            <a:off x="3211560" y="2276640"/>
            <a:ext cx="4648320" cy="23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"/>
          <p:cNvSpPr/>
          <p:nvPr/>
        </p:nvSpPr>
        <p:spPr>
          <a:xfrm>
            <a:off x="3211560" y="273384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"/>
          <p:cNvSpPr/>
          <p:nvPr/>
        </p:nvSpPr>
        <p:spPr>
          <a:xfrm>
            <a:off x="3211560" y="31147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"/>
          <p:cNvSpPr/>
          <p:nvPr/>
        </p:nvSpPr>
        <p:spPr>
          <a:xfrm>
            <a:off x="3211560" y="35719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7" name=""/>
          <p:cNvSpPr/>
          <p:nvPr/>
        </p:nvSpPr>
        <p:spPr>
          <a:xfrm>
            <a:off x="3211560" y="418140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8" name=""/>
          <p:cNvSpPr/>
          <p:nvPr/>
        </p:nvSpPr>
        <p:spPr>
          <a:xfrm>
            <a:off x="3973680" y="227664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9" name=""/>
          <p:cNvSpPr/>
          <p:nvPr/>
        </p:nvSpPr>
        <p:spPr>
          <a:xfrm>
            <a:off x="4583160" y="227664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0" name=""/>
          <p:cNvSpPr/>
          <p:nvPr/>
        </p:nvSpPr>
        <p:spPr>
          <a:xfrm>
            <a:off x="5116680" y="227664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1" name=""/>
          <p:cNvSpPr/>
          <p:nvPr/>
        </p:nvSpPr>
        <p:spPr>
          <a:xfrm>
            <a:off x="6716880" y="227664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2" name=""/>
          <p:cNvSpPr/>
          <p:nvPr/>
        </p:nvSpPr>
        <p:spPr>
          <a:xfrm>
            <a:off x="7250040" y="227664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3" name=""/>
          <p:cNvSpPr/>
          <p:nvPr/>
        </p:nvSpPr>
        <p:spPr>
          <a:xfrm>
            <a:off x="4278240" y="3343320"/>
            <a:ext cx="914400" cy="1676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"/>
          <p:cNvSpPr/>
          <p:nvPr/>
        </p:nvSpPr>
        <p:spPr>
          <a:xfrm>
            <a:off x="3753720" y="5016240"/>
            <a:ext cx="489924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records with key1=V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y2=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2023920" y="2297160"/>
            <a:ext cx="304920" cy="2243160"/>
          </a:xfrm>
          <a:custGeom>
            <a:avLst/>
            <a:gdLst>
              <a:gd name="textAreaLeft" fmla="*/ 194760 w 304920"/>
              <a:gd name="textAreaRight" fmla="*/ 305280 w 304920"/>
              <a:gd name="textAreaTop" fmla="*/ 58320 h 2243160"/>
              <a:gd name="textAreaBottom" fmla="*/ 2184840 h 224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6" name=""/>
          <p:cNvSpPr/>
          <p:nvPr/>
        </p:nvSpPr>
        <p:spPr>
          <a:xfrm rot="5400000">
            <a:off x="5481360" y="-417240"/>
            <a:ext cx="249480" cy="4278240"/>
          </a:xfrm>
          <a:custGeom>
            <a:avLst/>
            <a:gdLst>
              <a:gd name="textAreaLeft" fmla="*/ 159480 w 249480"/>
              <a:gd name="textAreaRight" fmla="*/ 249840 w 249480"/>
              <a:gd name="textAreaTop" fmla="*/ 111240 h 4278240"/>
              <a:gd name="textAreaBottom" fmla="*/ 4167000 h 4278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DD42-C29E-4CCF-BBAF-1BEF38DFDD5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CLAI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09480" y="16441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quickly find records wi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1 =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Key 2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1 =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2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9" name=""/>
          <p:cNvSpPr/>
          <p:nvPr/>
        </p:nvSpPr>
        <p:spPr>
          <a:xfrm>
            <a:off x="641520" y="42339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also ranges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  key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key 2 &lt;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EA50-579C-41C1-AAA2-215C1357D54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/>
          </p:nvPr>
        </p:nvSpPr>
        <p:spPr>
          <a:xfrm>
            <a:off x="565200" y="576000"/>
            <a:ext cx="77724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 there i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cat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ith Grid Indexe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1" name=""/>
          <p:cNvSpPr/>
          <p:nvPr/>
        </p:nvSpPr>
        <p:spPr>
          <a:xfrm>
            <a:off x="946080" y="15033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is Grid Index stored on disk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696960" y="2513520"/>
            <a:ext cx="6400800" cy="1639440"/>
            <a:chOff x="696960" y="2513520"/>
            <a:chExt cx="6400800" cy="1639440"/>
          </a:xfrm>
        </p:grpSpPr>
        <p:sp>
          <p:nvSpPr>
            <p:cNvPr id="913" name=""/>
            <p:cNvSpPr/>
            <p:nvPr/>
          </p:nvSpPr>
          <p:spPr>
            <a:xfrm>
              <a:off x="696960" y="2819520"/>
              <a:ext cx="1198440" cy="11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marL="318960" indent="-31896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k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marL="318960" indent="-31896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rray..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14" name=""/>
            <p:cNvGrpSpPr/>
            <p:nvPr/>
          </p:nvGrpSpPr>
          <p:grpSpPr>
            <a:xfrm>
              <a:off x="2335320" y="3161880"/>
              <a:ext cx="1218600" cy="952920"/>
              <a:chOff x="2335320" y="3161880"/>
              <a:chExt cx="1218600" cy="952920"/>
            </a:xfrm>
          </p:grpSpPr>
          <p:grpSp>
            <p:nvGrpSpPr>
              <p:cNvPr id="915" name=""/>
              <p:cNvGrpSpPr/>
              <p:nvPr/>
            </p:nvGrpSpPr>
            <p:grpSpPr>
              <a:xfrm>
                <a:off x="2335320" y="3161880"/>
                <a:ext cx="1218600" cy="685800"/>
                <a:chOff x="2335320" y="3161880"/>
                <a:chExt cx="1218600" cy="685800"/>
              </a:xfrm>
            </p:grpSpPr>
            <p:sp>
              <p:nvSpPr>
                <p:cNvPr id="916" name=""/>
                <p:cNvSpPr/>
                <p:nvPr/>
              </p:nvSpPr>
              <p:spPr>
                <a:xfrm rot="16200000">
                  <a:off x="2144520" y="3352320"/>
                  <a:ext cx="685800" cy="304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X1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 rot="16200000">
                  <a:off x="2449080" y="3352680"/>
                  <a:ext cx="68580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X2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rot="16200000">
                  <a:off x="2753640" y="3352320"/>
                  <a:ext cx="685800" cy="304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X3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 rot="16200000">
                  <a:off x="3058560" y="3352320"/>
                  <a:ext cx="685800" cy="304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X4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20" name=""/>
              <p:cNvSpPr/>
              <p:nvPr/>
            </p:nvSpPr>
            <p:spPr>
              <a:xfrm>
                <a:off x="2449080" y="373356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2830320" y="373356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134880" y="373356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439800" y="373356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24" name=""/>
            <p:cNvGrpSpPr/>
            <p:nvPr/>
          </p:nvGrpSpPr>
          <p:grpSpPr>
            <a:xfrm>
              <a:off x="4125960" y="3200040"/>
              <a:ext cx="1219320" cy="952920"/>
              <a:chOff x="4125960" y="3200040"/>
              <a:chExt cx="1219320" cy="952920"/>
            </a:xfrm>
          </p:grpSpPr>
          <p:grpSp>
            <p:nvGrpSpPr>
              <p:cNvPr id="925" name=""/>
              <p:cNvGrpSpPr/>
              <p:nvPr/>
            </p:nvGrpSpPr>
            <p:grpSpPr>
              <a:xfrm>
                <a:off x="4125960" y="3200040"/>
                <a:ext cx="1219320" cy="685800"/>
                <a:chOff x="4125960" y="3200040"/>
                <a:chExt cx="1219320" cy="685800"/>
              </a:xfrm>
            </p:grpSpPr>
            <p:sp>
              <p:nvSpPr>
                <p:cNvPr id="926" name=""/>
                <p:cNvSpPr/>
                <p:nvPr/>
              </p:nvSpPr>
              <p:spPr>
                <a:xfrm rot="16200000">
                  <a:off x="3935520" y="3390480"/>
                  <a:ext cx="685800" cy="304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X1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 rot="16200000">
                  <a:off x="4240080" y="3390480"/>
                  <a:ext cx="685800" cy="304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X2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 rot="16200000">
                  <a:off x="4545000" y="3390480"/>
                  <a:ext cx="685800" cy="304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X3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 rot="16200000">
                  <a:off x="4849920" y="3390480"/>
                  <a:ext cx="685800" cy="304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X4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30" name=""/>
              <p:cNvSpPr/>
              <p:nvPr/>
            </p:nvSpPr>
            <p:spPr>
              <a:xfrm>
                <a:off x="4240080" y="37717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621320" y="37717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925880" y="37717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230800" y="37717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4" name=""/>
            <p:cNvGrpSpPr/>
            <p:nvPr/>
          </p:nvGrpSpPr>
          <p:grpSpPr>
            <a:xfrm>
              <a:off x="5878440" y="3200040"/>
              <a:ext cx="1219320" cy="952920"/>
              <a:chOff x="5878440" y="3200040"/>
              <a:chExt cx="1219320" cy="952920"/>
            </a:xfrm>
          </p:grpSpPr>
          <p:grpSp>
            <p:nvGrpSpPr>
              <p:cNvPr id="935" name=""/>
              <p:cNvGrpSpPr/>
              <p:nvPr/>
            </p:nvGrpSpPr>
            <p:grpSpPr>
              <a:xfrm>
                <a:off x="5878440" y="3200040"/>
                <a:ext cx="1219320" cy="685800"/>
                <a:chOff x="5878440" y="3200040"/>
                <a:chExt cx="1219320" cy="685800"/>
              </a:xfrm>
            </p:grpSpPr>
            <p:sp>
              <p:nvSpPr>
                <p:cNvPr id="936" name=""/>
                <p:cNvSpPr/>
                <p:nvPr/>
              </p:nvSpPr>
              <p:spPr>
                <a:xfrm rot="16200000">
                  <a:off x="5688000" y="3390480"/>
                  <a:ext cx="685800" cy="304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X1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 rot="16200000">
                  <a:off x="5992560" y="3390480"/>
                  <a:ext cx="685800" cy="304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X2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 rot="16200000">
                  <a:off x="6297480" y="3390480"/>
                  <a:ext cx="685800" cy="304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X3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 rot="16200000">
                  <a:off x="6602400" y="3390480"/>
                  <a:ext cx="685800" cy="304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X4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40" name=""/>
              <p:cNvSpPr/>
              <p:nvPr/>
            </p:nvSpPr>
            <p:spPr>
              <a:xfrm>
                <a:off x="5992560" y="37717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373800" y="37717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678360" y="37717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983280" y="37717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44" name=""/>
            <p:cNvSpPr/>
            <p:nvPr/>
          </p:nvSpPr>
          <p:spPr>
            <a:xfrm>
              <a:off x="2599920" y="2513520"/>
              <a:ext cx="419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V1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V2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V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563400" y="4232160"/>
            <a:ext cx="7772400" cy="17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 regularity so we can compu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ition of &lt;Vi,Xj&gt; ent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EA52-755E-47ED-B7A7-4A03EA89AEF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5540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Solution: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Use Indire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16120" y="1709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ck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id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ers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ck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8" name=""/>
          <p:cNvSpPr/>
          <p:nvPr/>
        </p:nvSpPr>
        <p:spPr>
          <a:xfrm>
            <a:off x="1501920" y="239544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9" name=""/>
          <p:cNvSpPr/>
          <p:nvPr/>
        </p:nvSpPr>
        <p:spPr>
          <a:xfrm>
            <a:off x="2111400" y="239544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0" name=""/>
          <p:cNvSpPr/>
          <p:nvPr/>
        </p:nvSpPr>
        <p:spPr>
          <a:xfrm>
            <a:off x="2720880" y="2395440"/>
            <a:ext cx="6098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1" name=""/>
          <p:cNvSpPr/>
          <p:nvPr/>
        </p:nvSpPr>
        <p:spPr>
          <a:xfrm>
            <a:off x="1501920" y="285264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2" name=""/>
          <p:cNvSpPr/>
          <p:nvPr/>
        </p:nvSpPr>
        <p:spPr>
          <a:xfrm>
            <a:off x="2111400" y="285264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"/>
          <p:cNvSpPr/>
          <p:nvPr/>
        </p:nvSpPr>
        <p:spPr>
          <a:xfrm>
            <a:off x="2720880" y="2852640"/>
            <a:ext cx="6098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4" name=""/>
          <p:cNvSpPr/>
          <p:nvPr/>
        </p:nvSpPr>
        <p:spPr>
          <a:xfrm>
            <a:off x="1501920" y="330984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5" name=""/>
          <p:cNvSpPr/>
          <p:nvPr/>
        </p:nvSpPr>
        <p:spPr>
          <a:xfrm>
            <a:off x="2111400" y="330984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6" name=""/>
          <p:cNvSpPr/>
          <p:nvPr/>
        </p:nvSpPr>
        <p:spPr>
          <a:xfrm>
            <a:off x="2720880" y="3309840"/>
            <a:ext cx="6098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7" name=""/>
          <p:cNvSpPr/>
          <p:nvPr/>
        </p:nvSpPr>
        <p:spPr>
          <a:xfrm>
            <a:off x="1501920" y="376704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8" name=""/>
          <p:cNvSpPr/>
          <p:nvPr/>
        </p:nvSpPr>
        <p:spPr>
          <a:xfrm>
            <a:off x="2111400" y="376704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2720880" y="3767040"/>
            <a:ext cx="6098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2949480" y="4834080"/>
            <a:ext cx="5335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3711600" y="4834080"/>
            <a:ext cx="5335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4016520" y="2928960"/>
            <a:ext cx="533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4016520" y="2243160"/>
            <a:ext cx="533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4016520" y="3614760"/>
            <a:ext cx="533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5" name=""/>
          <p:cNvSpPr/>
          <p:nvPr/>
        </p:nvSpPr>
        <p:spPr>
          <a:xfrm>
            <a:off x="1537560" y="1937160"/>
            <a:ext cx="171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1   X2   X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6" name=""/>
          <p:cNvSpPr/>
          <p:nvPr/>
        </p:nvSpPr>
        <p:spPr>
          <a:xfrm>
            <a:off x="1806480" y="3995640"/>
            <a:ext cx="9907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"/>
          <p:cNvSpPr/>
          <p:nvPr/>
        </p:nvSpPr>
        <p:spPr>
          <a:xfrm>
            <a:off x="1730520" y="353844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8" name=""/>
          <p:cNvSpPr/>
          <p:nvPr/>
        </p:nvSpPr>
        <p:spPr>
          <a:xfrm>
            <a:off x="2416320" y="3538440"/>
            <a:ext cx="12952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9" name=""/>
          <p:cNvSpPr/>
          <p:nvPr/>
        </p:nvSpPr>
        <p:spPr>
          <a:xfrm>
            <a:off x="2492280" y="3995640"/>
            <a:ext cx="10670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0" name=""/>
          <p:cNvSpPr/>
          <p:nvPr/>
        </p:nvSpPr>
        <p:spPr>
          <a:xfrm>
            <a:off x="3178080" y="3995640"/>
            <a:ext cx="6098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1" name=""/>
          <p:cNvSpPr/>
          <p:nvPr/>
        </p:nvSpPr>
        <p:spPr>
          <a:xfrm>
            <a:off x="3102120" y="353844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"/>
          <p:cNvSpPr/>
          <p:nvPr/>
        </p:nvSpPr>
        <p:spPr>
          <a:xfrm>
            <a:off x="3025800" y="308124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"/>
          <p:cNvSpPr/>
          <p:nvPr/>
        </p:nvSpPr>
        <p:spPr>
          <a:xfrm>
            <a:off x="2949480" y="2548080"/>
            <a:ext cx="10670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"/>
          <p:cNvSpPr/>
          <p:nvPr/>
        </p:nvSpPr>
        <p:spPr>
          <a:xfrm flipV="1">
            <a:off x="2416320" y="270036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1730520" y="2548080"/>
            <a:ext cx="2209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2492280" y="2471400"/>
            <a:ext cx="1371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"/>
          <p:cNvSpPr/>
          <p:nvPr/>
        </p:nvSpPr>
        <p:spPr>
          <a:xfrm flipV="1">
            <a:off x="1882800" y="2395440"/>
            <a:ext cx="19051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A903-4AA6-420E-A4A3-8EB00A11E39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ith indirection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4582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id can be regular without wasting sp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o have price of indir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A74D-88B2-49E5-B937-3354687FB41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an also index grid o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value rang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lar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2" name=""/>
          <p:cNvSpPr/>
          <p:nvPr/>
        </p:nvSpPr>
        <p:spPr>
          <a:xfrm>
            <a:off x="380880" y="4724280"/>
            <a:ext cx="2210040" cy="121932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ear Sca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1371600" y="42670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4" name=""/>
          <p:cNvSpPr/>
          <p:nvPr/>
        </p:nvSpPr>
        <p:spPr>
          <a:xfrm>
            <a:off x="281952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5" name=""/>
          <p:cNvSpPr/>
          <p:nvPr/>
        </p:nvSpPr>
        <p:spPr>
          <a:xfrm>
            <a:off x="6019920" y="27432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6" name=""/>
          <p:cNvSpPr/>
          <p:nvPr/>
        </p:nvSpPr>
        <p:spPr>
          <a:xfrm>
            <a:off x="6477120" y="27432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7" name=""/>
          <p:cNvSpPr/>
          <p:nvPr/>
        </p:nvSpPr>
        <p:spPr>
          <a:xfrm>
            <a:off x="6934320" y="27432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8" name=""/>
          <p:cNvSpPr/>
          <p:nvPr/>
        </p:nvSpPr>
        <p:spPr>
          <a:xfrm>
            <a:off x="6019920" y="3124080"/>
            <a:ext cx="457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9" name=""/>
          <p:cNvSpPr/>
          <p:nvPr/>
        </p:nvSpPr>
        <p:spPr>
          <a:xfrm>
            <a:off x="6477120" y="3124080"/>
            <a:ext cx="457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0" name=""/>
          <p:cNvSpPr/>
          <p:nvPr/>
        </p:nvSpPr>
        <p:spPr>
          <a:xfrm>
            <a:off x="6934320" y="3124080"/>
            <a:ext cx="457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1" name=""/>
          <p:cNvSpPr/>
          <p:nvPr/>
        </p:nvSpPr>
        <p:spPr>
          <a:xfrm>
            <a:off x="6019920" y="350532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"/>
          <p:cNvSpPr/>
          <p:nvPr/>
        </p:nvSpPr>
        <p:spPr>
          <a:xfrm>
            <a:off x="6477120" y="350532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3" name=""/>
          <p:cNvSpPr/>
          <p:nvPr/>
        </p:nvSpPr>
        <p:spPr>
          <a:xfrm>
            <a:off x="6934320" y="350532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"/>
          <p:cNvSpPr/>
          <p:nvPr/>
        </p:nvSpPr>
        <p:spPr>
          <a:xfrm>
            <a:off x="5334120" y="4724280"/>
            <a:ext cx="7617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5" name=""/>
          <p:cNvSpPr/>
          <p:nvPr/>
        </p:nvSpPr>
        <p:spPr>
          <a:xfrm>
            <a:off x="6095880" y="472428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6" name=""/>
          <p:cNvSpPr/>
          <p:nvPr/>
        </p:nvSpPr>
        <p:spPr>
          <a:xfrm>
            <a:off x="6858000" y="47242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7" name=""/>
          <p:cNvSpPr/>
          <p:nvPr/>
        </p:nvSpPr>
        <p:spPr>
          <a:xfrm>
            <a:off x="5334120" y="5181480"/>
            <a:ext cx="7617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8" name=""/>
          <p:cNvSpPr/>
          <p:nvPr/>
        </p:nvSpPr>
        <p:spPr>
          <a:xfrm>
            <a:off x="6095880" y="518148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9" name=""/>
          <p:cNvSpPr/>
          <p:nvPr/>
        </p:nvSpPr>
        <p:spPr>
          <a:xfrm>
            <a:off x="6858000" y="51814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so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0" name=""/>
          <p:cNvSpPr/>
          <p:nvPr/>
        </p:nvSpPr>
        <p:spPr>
          <a:xfrm>
            <a:off x="990720" y="259092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-20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"/>
          <p:cNvSpPr/>
          <p:nvPr/>
        </p:nvSpPr>
        <p:spPr>
          <a:xfrm>
            <a:off x="2514600" y="259092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"/>
          <p:cNvSpPr/>
          <p:nvPr/>
        </p:nvSpPr>
        <p:spPr>
          <a:xfrm>
            <a:off x="990720" y="304812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K-50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"/>
          <p:cNvSpPr/>
          <p:nvPr/>
        </p:nvSpPr>
        <p:spPr>
          <a:xfrm>
            <a:off x="2514600" y="304812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"/>
          <p:cNvSpPr/>
          <p:nvPr/>
        </p:nvSpPr>
        <p:spPr>
          <a:xfrm>
            <a:off x="990720" y="350532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0K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"/>
          <p:cNvSpPr/>
          <p:nvPr/>
        </p:nvSpPr>
        <p:spPr>
          <a:xfrm>
            <a:off x="2514600" y="350532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"/>
          <p:cNvSpPr/>
          <p:nvPr/>
        </p:nvSpPr>
        <p:spPr>
          <a:xfrm rot="16200000">
            <a:off x="2185200" y="3526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"/>
          <p:cNvSpPr/>
          <p:nvPr/>
        </p:nvSpPr>
        <p:spPr>
          <a:xfrm>
            <a:off x="3352680" y="28954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"/>
          <p:cNvSpPr/>
          <p:nvPr/>
        </p:nvSpPr>
        <p:spPr>
          <a:xfrm>
            <a:off x="3352680" y="37339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5791320" y="40384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6477120" y="40384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7162920" y="4038480"/>
            <a:ext cx="75960" cy="609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9057-BE5F-4E11-AD4B-B4F1EAC4812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Grid fi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d for multiple-key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ace, management overhea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thing is fre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 partitioning ranges that even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lit ke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"/>
          <p:cNvSpPr/>
          <p:nvPr/>
        </p:nvSpPr>
        <p:spPr>
          <a:xfrm>
            <a:off x="685800" y="212256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6" name=""/>
          <p:cNvSpPr/>
          <p:nvPr/>
        </p:nvSpPr>
        <p:spPr>
          <a:xfrm>
            <a:off x="696960" y="27097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7" name=""/>
          <p:cNvSpPr/>
          <p:nvPr/>
        </p:nvSpPr>
        <p:spPr>
          <a:xfrm>
            <a:off x="730080" y="37670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5351-3155-4466-94F1-8AEFEAC786B1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y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Key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9" name=""/>
          <p:cNvSpPr/>
          <p:nvPr/>
        </p:nvSpPr>
        <p:spPr>
          <a:xfrm>
            <a:off x="685800" y="533520"/>
            <a:ext cx="5181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artitioned hash fun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0" name=""/>
          <p:cNvSpPr/>
          <p:nvPr/>
        </p:nvSpPr>
        <p:spPr>
          <a:xfrm>
            <a:off x="2895480" y="3124080"/>
            <a:ext cx="60984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1" name=""/>
          <p:cNvSpPr/>
          <p:nvPr/>
        </p:nvSpPr>
        <p:spPr>
          <a:xfrm>
            <a:off x="4419720" y="3124080"/>
            <a:ext cx="60948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5333760" y="3429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3" name=""/>
          <p:cNvSpPr/>
          <p:nvPr/>
        </p:nvSpPr>
        <p:spPr>
          <a:xfrm>
            <a:off x="2057400" y="3429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4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10110 11100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"/>
          <p:cNvSpPr/>
          <p:nvPr/>
        </p:nvSpPr>
        <p:spPr>
          <a:xfrm rot="5400000">
            <a:off x="3047760" y="2057400"/>
            <a:ext cx="228600" cy="129528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6" name=""/>
          <p:cNvSpPr/>
          <p:nvPr/>
        </p:nvSpPr>
        <p:spPr>
          <a:xfrm rot="5400000">
            <a:off x="4647960" y="2057400"/>
            <a:ext cx="228600" cy="129528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32004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48006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9E9C-E45C-44AB-B90E-DE68C7DA9B3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1(toy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1(sales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1(art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2(10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0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2(20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2(30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0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2(40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Fred,toy,10k&gt;,&lt;Joe,sales,10k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Sally,art,30k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0" name=""/>
          <p:cNvSpPr/>
          <p:nvPr/>
        </p:nvSpPr>
        <p:spPr>
          <a:xfrm>
            <a:off x="5105520" y="3352680"/>
            <a:ext cx="2743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EX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2" name=""/>
          <p:cNvSpPr/>
          <p:nvPr/>
        </p:nvSpPr>
        <p:spPr>
          <a:xfrm>
            <a:off x="990720" y="54100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"/>
          <p:cNvSpPr/>
          <p:nvPr/>
        </p:nvSpPr>
        <p:spPr>
          <a:xfrm>
            <a:off x="5105520" y="144792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"/>
          <p:cNvSpPr/>
          <p:nvPr/>
        </p:nvSpPr>
        <p:spPr>
          <a:xfrm>
            <a:off x="5105520" y="182880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5" name=""/>
          <p:cNvSpPr/>
          <p:nvPr/>
        </p:nvSpPr>
        <p:spPr>
          <a:xfrm>
            <a:off x="5105520" y="220968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6" name=""/>
          <p:cNvSpPr/>
          <p:nvPr/>
        </p:nvSpPr>
        <p:spPr>
          <a:xfrm>
            <a:off x="5105520" y="259092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"/>
          <p:cNvSpPr/>
          <p:nvPr/>
        </p:nvSpPr>
        <p:spPr>
          <a:xfrm>
            <a:off x="5105520" y="297180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8" name=""/>
          <p:cNvSpPr/>
          <p:nvPr/>
        </p:nvSpPr>
        <p:spPr>
          <a:xfrm>
            <a:off x="5105520" y="373392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9" name=""/>
          <p:cNvSpPr/>
          <p:nvPr/>
        </p:nvSpPr>
        <p:spPr>
          <a:xfrm>
            <a:off x="5105520" y="411480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5465880" y="1859040"/>
            <a:ext cx="2090520" cy="1874880"/>
            <a:chOff x="5465880" y="1859040"/>
            <a:chExt cx="2090520" cy="1874880"/>
          </a:xfrm>
        </p:grpSpPr>
        <p:sp>
          <p:nvSpPr>
            <p:cNvPr id="1041" name=""/>
            <p:cNvSpPr/>
            <p:nvPr/>
          </p:nvSpPr>
          <p:spPr>
            <a:xfrm>
              <a:off x="5465880" y="3384720"/>
              <a:ext cx="2090520" cy="34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&lt;Joe&gt;&lt;Sally&gt;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824440" y="1859040"/>
              <a:ext cx="141624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&lt;Fred&gt;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BF62-33E8-46CD-9850-7923F5343FD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1(toy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1(sales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1(art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2(10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0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2(20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2(30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0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2(40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Emp. with Dept. = Sales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Sal=40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4" name=""/>
          <p:cNvSpPr/>
          <p:nvPr/>
        </p:nvSpPr>
        <p:spPr>
          <a:xfrm>
            <a:off x="5105520" y="144792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Fred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5" name=""/>
          <p:cNvSpPr/>
          <p:nvPr/>
        </p:nvSpPr>
        <p:spPr>
          <a:xfrm>
            <a:off x="5105520" y="182880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Joe&gt;&lt;Jan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6" name=""/>
          <p:cNvSpPr/>
          <p:nvPr/>
        </p:nvSpPr>
        <p:spPr>
          <a:xfrm>
            <a:off x="5105520" y="220968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ary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7" name=""/>
          <p:cNvSpPr/>
          <p:nvPr/>
        </p:nvSpPr>
        <p:spPr>
          <a:xfrm>
            <a:off x="5105520" y="259092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8" name=""/>
          <p:cNvSpPr/>
          <p:nvPr/>
        </p:nvSpPr>
        <p:spPr>
          <a:xfrm>
            <a:off x="5105520" y="297180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Sally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9" name=""/>
          <p:cNvSpPr/>
          <p:nvPr/>
        </p:nvSpPr>
        <p:spPr>
          <a:xfrm>
            <a:off x="5105520" y="3352680"/>
            <a:ext cx="2743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0" name=""/>
          <p:cNvSpPr/>
          <p:nvPr/>
        </p:nvSpPr>
        <p:spPr>
          <a:xfrm>
            <a:off x="5105520" y="373392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Tom&gt;&lt;Bill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1" name=""/>
          <p:cNvSpPr/>
          <p:nvPr/>
        </p:nvSpPr>
        <p:spPr>
          <a:xfrm>
            <a:off x="5105520" y="411480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Andy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2" name=""/>
          <p:cNvSpPr/>
          <p:nvPr/>
        </p:nvSpPr>
        <p:spPr>
          <a:xfrm>
            <a:off x="5170320" y="2987640"/>
            <a:ext cx="2592720" cy="360360"/>
          </a:xfrm>
          <a:custGeom>
            <a:avLst/>
            <a:gdLst/>
            <a:ahLst/>
            <a:rect l="l" t="t" r="r" b="b"/>
            <a:pathLst>
              <a:path w="1633" h="227">
                <a:moveTo>
                  <a:pt x="0" y="100"/>
                </a:moveTo>
                <a:cubicBezTo>
                  <a:pt x="43" y="86"/>
                  <a:pt x="79" y="67"/>
                  <a:pt x="124" y="59"/>
                </a:cubicBezTo>
                <a:cubicBezTo>
                  <a:pt x="288" y="3"/>
                  <a:pt x="458" y="14"/>
                  <a:pt x="631" y="11"/>
                </a:cubicBezTo>
                <a:cubicBezTo>
                  <a:pt x="837" y="0"/>
                  <a:pt x="1012" y="0"/>
                  <a:pt x="1228" y="4"/>
                </a:cubicBezTo>
                <a:cubicBezTo>
                  <a:pt x="1304" y="14"/>
                  <a:pt x="1263" y="7"/>
                  <a:pt x="1344" y="24"/>
                </a:cubicBezTo>
                <a:cubicBezTo>
                  <a:pt x="1355" y="26"/>
                  <a:pt x="1378" y="31"/>
                  <a:pt x="1378" y="31"/>
                </a:cubicBezTo>
                <a:cubicBezTo>
                  <a:pt x="1430" y="62"/>
                  <a:pt x="1491" y="78"/>
                  <a:pt x="1550" y="93"/>
                </a:cubicBezTo>
                <a:cubicBezTo>
                  <a:pt x="1575" y="99"/>
                  <a:pt x="1593" y="113"/>
                  <a:pt x="1618" y="120"/>
                </a:cubicBezTo>
                <a:cubicBezTo>
                  <a:pt x="1623" y="127"/>
                  <a:pt x="1633" y="133"/>
                  <a:pt x="1632" y="141"/>
                </a:cubicBezTo>
                <a:cubicBezTo>
                  <a:pt x="1630" y="151"/>
                  <a:pt x="1571" y="172"/>
                  <a:pt x="1564" y="175"/>
                </a:cubicBezTo>
                <a:cubicBezTo>
                  <a:pt x="1503" y="198"/>
                  <a:pt x="1457" y="204"/>
                  <a:pt x="1392" y="209"/>
                </a:cubicBezTo>
                <a:cubicBezTo>
                  <a:pt x="1365" y="211"/>
                  <a:pt x="1337" y="214"/>
                  <a:pt x="1310" y="216"/>
                </a:cubicBezTo>
                <a:cubicBezTo>
                  <a:pt x="940" y="213"/>
                  <a:pt x="603" y="227"/>
                  <a:pt x="247" y="182"/>
                </a:cubicBezTo>
                <a:cubicBezTo>
                  <a:pt x="208" y="172"/>
                  <a:pt x="170" y="158"/>
                  <a:pt x="130" y="148"/>
                </a:cubicBezTo>
                <a:cubicBezTo>
                  <a:pt x="98" y="123"/>
                  <a:pt x="54" y="103"/>
                  <a:pt x="28" y="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F9D6-49C9-4D5B-8E6F-CA71886777DE}" type="slidenum">
              <a:t>5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96880" y="851040"/>
            <a:ext cx="777240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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may not be best function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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 Knuth Vol. 3 if you re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 to select a good fun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558720" y="3213000"/>
            <a:ext cx="7772400" cy="20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d has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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xpected number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ys/bucket is t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me for all buck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F83D-C1FA-4C91-BE1F-C548BFA23FC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1(toy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1(sales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1(art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2(10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0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2(20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2(30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0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2(40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Emp. with Sal=30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4" name=""/>
          <p:cNvSpPr/>
          <p:nvPr/>
        </p:nvSpPr>
        <p:spPr>
          <a:xfrm>
            <a:off x="5105520" y="144792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Fred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5" name=""/>
          <p:cNvSpPr/>
          <p:nvPr/>
        </p:nvSpPr>
        <p:spPr>
          <a:xfrm>
            <a:off x="5105520" y="182880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Joe&gt;&lt;Jan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"/>
          <p:cNvSpPr/>
          <p:nvPr/>
        </p:nvSpPr>
        <p:spPr>
          <a:xfrm>
            <a:off x="5105520" y="220968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ary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7" name=""/>
          <p:cNvSpPr/>
          <p:nvPr/>
        </p:nvSpPr>
        <p:spPr>
          <a:xfrm>
            <a:off x="5105520" y="259092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"/>
          <p:cNvSpPr/>
          <p:nvPr/>
        </p:nvSpPr>
        <p:spPr>
          <a:xfrm>
            <a:off x="5105520" y="297180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Sally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"/>
          <p:cNvSpPr/>
          <p:nvPr/>
        </p:nvSpPr>
        <p:spPr>
          <a:xfrm>
            <a:off x="5105520" y="3352680"/>
            <a:ext cx="2743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"/>
          <p:cNvSpPr/>
          <p:nvPr/>
        </p:nvSpPr>
        <p:spPr>
          <a:xfrm>
            <a:off x="5105520" y="373392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Tom&gt;&lt;Bill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"/>
          <p:cNvSpPr/>
          <p:nvPr/>
        </p:nvSpPr>
        <p:spPr>
          <a:xfrm>
            <a:off x="5105520" y="411480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Andy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62" name=""/>
          <p:cNvGrpSpPr/>
          <p:nvPr/>
        </p:nvGrpSpPr>
        <p:grpSpPr>
          <a:xfrm>
            <a:off x="5072040" y="1795320"/>
            <a:ext cx="3283560" cy="3900600"/>
            <a:chOff x="5072040" y="1795320"/>
            <a:chExt cx="3283560" cy="3900600"/>
          </a:xfrm>
        </p:grpSpPr>
        <p:sp>
          <p:nvSpPr>
            <p:cNvPr id="1063" name=""/>
            <p:cNvSpPr/>
            <p:nvPr/>
          </p:nvSpPr>
          <p:spPr>
            <a:xfrm>
              <a:off x="5072040" y="1795320"/>
              <a:ext cx="2583000" cy="430200"/>
            </a:xfrm>
            <a:custGeom>
              <a:avLst/>
              <a:gdLst/>
              <a:ahLst/>
              <a:rect l="l" t="t" r="r" b="b"/>
              <a:pathLst>
                <a:path w="1627" h="271">
                  <a:moveTo>
                    <a:pt x="0" y="138"/>
                  </a:moveTo>
                  <a:cubicBezTo>
                    <a:pt x="75" y="63"/>
                    <a:pt x="231" y="48"/>
                    <a:pt x="330" y="35"/>
                  </a:cubicBezTo>
                  <a:cubicBezTo>
                    <a:pt x="371" y="24"/>
                    <a:pt x="413" y="13"/>
                    <a:pt x="453" y="0"/>
                  </a:cubicBezTo>
                  <a:cubicBezTo>
                    <a:pt x="674" y="4"/>
                    <a:pt x="891" y="7"/>
                    <a:pt x="1111" y="28"/>
                  </a:cubicBezTo>
                  <a:cubicBezTo>
                    <a:pt x="1281" y="71"/>
                    <a:pt x="1458" y="76"/>
                    <a:pt x="1619" y="151"/>
                  </a:cubicBezTo>
                  <a:cubicBezTo>
                    <a:pt x="1626" y="171"/>
                    <a:pt x="1627" y="199"/>
                    <a:pt x="1605" y="213"/>
                  </a:cubicBezTo>
                  <a:cubicBezTo>
                    <a:pt x="1594" y="220"/>
                    <a:pt x="1545" y="233"/>
                    <a:pt x="1530" y="234"/>
                  </a:cubicBezTo>
                  <a:cubicBezTo>
                    <a:pt x="1461" y="240"/>
                    <a:pt x="1324" y="247"/>
                    <a:pt x="1324" y="247"/>
                  </a:cubicBezTo>
                  <a:cubicBezTo>
                    <a:pt x="954" y="244"/>
                    <a:pt x="730" y="271"/>
                    <a:pt x="426" y="227"/>
                  </a:cubicBezTo>
                  <a:cubicBezTo>
                    <a:pt x="390" y="215"/>
                    <a:pt x="353" y="211"/>
                    <a:pt x="316" y="206"/>
                  </a:cubicBezTo>
                  <a:cubicBezTo>
                    <a:pt x="267" y="190"/>
                    <a:pt x="199" y="178"/>
                    <a:pt x="158" y="144"/>
                  </a:cubicBezTo>
                  <a:cubicBezTo>
                    <a:pt x="139" y="128"/>
                    <a:pt x="129" y="106"/>
                    <a:pt x="110" y="9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127480" y="3352680"/>
              <a:ext cx="2273400" cy="370080"/>
            </a:xfrm>
            <a:custGeom>
              <a:avLst/>
              <a:gdLst/>
              <a:ahLst/>
              <a:rect l="l" t="t" r="r" b="b"/>
              <a:pathLst>
                <a:path w="1432" h="233">
                  <a:moveTo>
                    <a:pt x="0" y="103"/>
                  </a:moveTo>
                  <a:cubicBezTo>
                    <a:pt x="43" y="92"/>
                    <a:pt x="19" y="101"/>
                    <a:pt x="68" y="69"/>
                  </a:cubicBezTo>
                  <a:cubicBezTo>
                    <a:pt x="100" y="48"/>
                    <a:pt x="166" y="43"/>
                    <a:pt x="199" y="27"/>
                  </a:cubicBezTo>
                  <a:cubicBezTo>
                    <a:pt x="208" y="23"/>
                    <a:pt x="217" y="17"/>
                    <a:pt x="226" y="14"/>
                  </a:cubicBezTo>
                  <a:cubicBezTo>
                    <a:pt x="244" y="8"/>
                    <a:pt x="281" y="0"/>
                    <a:pt x="281" y="0"/>
                  </a:cubicBezTo>
                  <a:cubicBezTo>
                    <a:pt x="352" y="2"/>
                    <a:pt x="559" y="5"/>
                    <a:pt x="658" y="14"/>
                  </a:cubicBezTo>
                  <a:cubicBezTo>
                    <a:pt x="715" y="19"/>
                    <a:pt x="772" y="34"/>
                    <a:pt x="829" y="41"/>
                  </a:cubicBezTo>
                  <a:cubicBezTo>
                    <a:pt x="920" y="71"/>
                    <a:pt x="1016" y="65"/>
                    <a:pt x="1111" y="69"/>
                  </a:cubicBezTo>
                  <a:cubicBezTo>
                    <a:pt x="1205" y="81"/>
                    <a:pt x="1298" y="98"/>
                    <a:pt x="1392" y="110"/>
                  </a:cubicBezTo>
                  <a:cubicBezTo>
                    <a:pt x="1430" y="135"/>
                    <a:pt x="1432" y="128"/>
                    <a:pt x="1399" y="206"/>
                  </a:cubicBezTo>
                  <a:cubicBezTo>
                    <a:pt x="1395" y="215"/>
                    <a:pt x="1381" y="215"/>
                    <a:pt x="1371" y="219"/>
                  </a:cubicBezTo>
                  <a:cubicBezTo>
                    <a:pt x="1358" y="224"/>
                    <a:pt x="1330" y="233"/>
                    <a:pt x="1330" y="233"/>
                  </a:cubicBezTo>
                  <a:cubicBezTo>
                    <a:pt x="920" y="227"/>
                    <a:pt x="518" y="196"/>
                    <a:pt x="109" y="178"/>
                  </a:cubicBezTo>
                  <a:cubicBezTo>
                    <a:pt x="19" y="170"/>
                    <a:pt x="0" y="192"/>
                    <a:pt x="0" y="103"/>
                  </a:cubicBez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608960" y="2017800"/>
              <a:ext cx="696960" cy="3273480"/>
            </a:xfrm>
            <a:custGeom>
              <a:avLst/>
              <a:gdLst/>
              <a:ahLst/>
              <a:rect l="l" t="t" r="r" b="b"/>
              <a:pathLst>
                <a:path w="439" h="2062">
                  <a:moveTo>
                    <a:pt x="0" y="18"/>
                  </a:moveTo>
                  <a:cubicBezTo>
                    <a:pt x="170" y="23"/>
                    <a:pt x="188" y="0"/>
                    <a:pt x="295" y="52"/>
                  </a:cubicBezTo>
                  <a:cubicBezTo>
                    <a:pt x="308" y="65"/>
                    <a:pt x="326" y="72"/>
                    <a:pt x="336" y="87"/>
                  </a:cubicBezTo>
                  <a:cubicBezTo>
                    <a:pt x="343" y="97"/>
                    <a:pt x="343" y="111"/>
                    <a:pt x="350" y="121"/>
                  </a:cubicBezTo>
                  <a:cubicBezTo>
                    <a:pt x="360" y="136"/>
                    <a:pt x="373" y="148"/>
                    <a:pt x="384" y="162"/>
                  </a:cubicBezTo>
                  <a:cubicBezTo>
                    <a:pt x="394" y="175"/>
                    <a:pt x="412" y="203"/>
                    <a:pt x="412" y="203"/>
                  </a:cubicBezTo>
                  <a:cubicBezTo>
                    <a:pt x="420" y="251"/>
                    <a:pt x="427" y="300"/>
                    <a:pt x="439" y="347"/>
                  </a:cubicBezTo>
                  <a:cubicBezTo>
                    <a:pt x="434" y="442"/>
                    <a:pt x="429" y="534"/>
                    <a:pt x="412" y="628"/>
                  </a:cubicBezTo>
                  <a:cubicBezTo>
                    <a:pt x="399" y="862"/>
                    <a:pt x="395" y="1097"/>
                    <a:pt x="357" y="1328"/>
                  </a:cubicBezTo>
                  <a:cubicBezTo>
                    <a:pt x="351" y="1364"/>
                    <a:pt x="353" y="1402"/>
                    <a:pt x="343" y="1438"/>
                  </a:cubicBezTo>
                  <a:cubicBezTo>
                    <a:pt x="314" y="1540"/>
                    <a:pt x="280" y="1643"/>
                    <a:pt x="254" y="1746"/>
                  </a:cubicBezTo>
                  <a:cubicBezTo>
                    <a:pt x="233" y="1827"/>
                    <a:pt x="224" y="1904"/>
                    <a:pt x="185" y="1979"/>
                  </a:cubicBezTo>
                  <a:cubicBezTo>
                    <a:pt x="178" y="2007"/>
                    <a:pt x="171" y="2036"/>
                    <a:pt x="158" y="206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358040" y="3564000"/>
              <a:ext cx="849240" cy="387360"/>
            </a:xfrm>
            <a:custGeom>
              <a:avLst/>
              <a:gdLst/>
              <a:ahLst/>
              <a:rect l="l" t="t" r="r" b="b"/>
              <a:pathLst>
                <a:path w="535" h="244">
                  <a:moveTo>
                    <a:pt x="0" y="45"/>
                  </a:moveTo>
                  <a:cubicBezTo>
                    <a:pt x="32" y="34"/>
                    <a:pt x="64" y="29"/>
                    <a:pt x="96" y="18"/>
                  </a:cubicBezTo>
                  <a:cubicBezTo>
                    <a:pt x="218" y="22"/>
                    <a:pt x="330" y="0"/>
                    <a:pt x="426" y="80"/>
                  </a:cubicBezTo>
                  <a:cubicBezTo>
                    <a:pt x="530" y="166"/>
                    <a:pt x="437" y="104"/>
                    <a:pt x="494" y="141"/>
                  </a:cubicBezTo>
                  <a:cubicBezTo>
                    <a:pt x="511" y="167"/>
                    <a:pt x="535" y="213"/>
                    <a:pt x="535" y="24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824520" y="5236200"/>
              <a:ext cx="153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look her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4DA5-2B75-48B0-A9B4-83195629D4D7}" type="slidenum">
              <a:t>6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1(toy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1(sales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1(art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2(10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0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2(20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2(30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0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2(40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Emp. with Dept. = S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9" name=""/>
          <p:cNvSpPr/>
          <p:nvPr/>
        </p:nvSpPr>
        <p:spPr>
          <a:xfrm>
            <a:off x="5105520" y="144792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Fred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"/>
          <p:cNvSpPr/>
          <p:nvPr/>
        </p:nvSpPr>
        <p:spPr>
          <a:xfrm>
            <a:off x="5105520" y="182880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Joe&gt;&lt;Jan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"/>
          <p:cNvSpPr/>
          <p:nvPr/>
        </p:nvSpPr>
        <p:spPr>
          <a:xfrm>
            <a:off x="5105520" y="220968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ary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2" name=""/>
          <p:cNvSpPr/>
          <p:nvPr/>
        </p:nvSpPr>
        <p:spPr>
          <a:xfrm>
            <a:off x="5105520" y="259092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3" name=""/>
          <p:cNvSpPr/>
          <p:nvPr/>
        </p:nvSpPr>
        <p:spPr>
          <a:xfrm>
            <a:off x="5105520" y="297180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Sally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4" name=""/>
          <p:cNvSpPr/>
          <p:nvPr/>
        </p:nvSpPr>
        <p:spPr>
          <a:xfrm>
            <a:off x="5105520" y="3352680"/>
            <a:ext cx="2743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"/>
          <p:cNvSpPr/>
          <p:nvPr/>
        </p:nvSpPr>
        <p:spPr>
          <a:xfrm>
            <a:off x="5105520" y="373392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Tom&gt;&lt;Bill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"/>
          <p:cNvSpPr/>
          <p:nvPr/>
        </p:nvSpPr>
        <p:spPr>
          <a:xfrm>
            <a:off x="5105520" y="411480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Andy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5083200" y="2936880"/>
            <a:ext cx="3122640" cy="2703240"/>
            <a:chOff x="5083200" y="2936880"/>
            <a:chExt cx="3122640" cy="2703240"/>
          </a:xfrm>
        </p:grpSpPr>
        <p:sp>
          <p:nvSpPr>
            <p:cNvPr id="1078" name=""/>
            <p:cNvSpPr/>
            <p:nvPr/>
          </p:nvSpPr>
          <p:spPr>
            <a:xfrm>
              <a:off x="5083200" y="2936880"/>
              <a:ext cx="2800440" cy="1612800"/>
            </a:xfrm>
            <a:custGeom>
              <a:avLst/>
              <a:gdLst/>
              <a:ahLst/>
              <a:rect l="l" t="t" r="r" b="b"/>
              <a:pathLst>
                <a:path w="1764" h="1016">
                  <a:moveTo>
                    <a:pt x="0" y="97"/>
                  </a:moveTo>
                  <a:cubicBezTo>
                    <a:pt x="9" y="95"/>
                    <a:pt x="19" y="92"/>
                    <a:pt x="28" y="90"/>
                  </a:cubicBezTo>
                  <a:cubicBezTo>
                    <a:pt x="46" y="87"/>
                    <a:pt x="65" y="87"/>
                    <a:pt x="83" y="83"/>
                  </a:cubicBezTo>
                  <a:cubicBezTo>
                    <a:pt x="102" y="78"/>
                    <a:pt x="118" y="68"/>
                    <a:pt x="137" y="63"/>
                  </a:cubicBezTo>
                  <a:cubicBezTo>
                    <a:pt x="187" y="30"/>
                    <a:pt x="265" y="22"/>
                    <a:pt x="323" y="15"/>
                  </a:cubicBezTo>
                  <a:cubicBezTo>
                    <a:pt x="522" y="18"/>
                    <a:pt x="738" y="0"/>
                    <a:pt x="940" y="35"/>
                  </a:cubicBezTo>
                  <a:cubicBezTo>
                    <a:pt x="980" y="49"/>
                    <a:pt x="1021" y="51"/>
                    <a:pt x="1063" y="56"/>
                  </a:cubicBezTo>
                  <a:cubicBezTo>
                    <a:pt x="1182" y="86"/>
                    <a:pt x="1325" y="83"/>
                    <a:pt x="1447" y="90"/>
                  </a:cubicBezTo>
                  <a:cubicBezTo>
                    <a:pt x="1497" y="100"/>
                    <a:pt x="1547" y="105"/>
                    <a:pt x="1598" y="111"/>
                  </a:cubicBezTo>
                  <a:cubicBezTo>
                    <a:pt x="1621" y="117"/>
                    <a:pt x="1644" y="123"/>
                    <a:pt x="1667" y="131"/>
                  </a:cubicBezTo>
                  <a:cubicBezTo>
                    <a:pt x="1715" y="163"/>
                    <a:pt x="1699" y="145"/>
                    <a:pt x="1721" y="179"/>
                  </a:cubicBezTo>
                  <a:cubicBezTo>
                    <a:pt x="1736" y="279"/>
                    <a:pt x="1723" y="382"/>
                    <a:pt x="1749" y="481"/>
                  </a:cubicBezTo>
                  <a:cubicBezTo>
                    <a:pt x="1746" y="556"/>
                    <a:pt x="1764" y="637"/>
                    <a:pt x="1735" y="707"/>
                  </a:cubicBezTo>
                  <a:cubicBezTo>
                    <a:pt x="1692" y="811"/>
                    <a:pt x="1644" y="870"/>
                    <a:pt x="1550" y="934"/>
                  </a:cubicBezTo>
                  <a:cubicBezTo>
                    <a:pt x="1489" y="976"/>
                    <a:pt x="1475" y="1003"/>
                    <a:pt x="1399" y="1016"/>
                  </a:cubicBezTo>
                  <a:cubicBezTo>
                    <a:pt x="1175" y="1010"/>
                    <a:pt x="951" y="998"/>
                    <a:pt x="727" y="988"/>
                  </a:cubicBezTo>
                  <a:cubicBezTo>
                    <a:pt x="550" y="980"/>
                    <a:pt x="365" y="983"/>
                    <a:pt x="192" y="940"/>
                  </a:cubicBezTo>
                  <a:cubicBezTo>
                    <a:pt x="170" y="926"/>
                    <a:pt x="143" y="917"/>
                    <a:pt x="124" y="899"/>
                  </a:cubicBezTo>
                  <a:cubicBezTo>
                    <a:pt x="105" y="881"/>
                    <a:pt x="69" y="844"/>
                    <a:pt x="69" y="844"/>
                  </a:cubicBezTo>
                  <a:cubicBezTo>
                    <a:pt x="60" y="818"/>
                    <a:pt x="54" y="794"/>
                    <a:pt x="41" y="769"/>
                  </a:cubicBezTo>
                  <a:cubicBezTo>
                    <a:pt x="45" y="638"/>
                    <a:pt x="48" y="525"/>
                    <a:pt x="62" y="399"/>
                  </a:cubicBezTo>
                  <a:cubicBezTo>
                    <a:pt x="73" y="292"/>
                    <a:pt x="103" y="183"/>
                    <a:pt x="103" y="7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279840" y="5180400"/>
              <a:ext cx="153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look her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707240" y="3700440"/>
              <a:ext cx="498600" cy="1709640"/>
            </a:xfrm>
            <a:custGeom>
              <a:avLst/>
              <a:gdLst/>
              <a:ahLst/>
              <a:rect l="l" t="t" r="r" b="b"/>
              <a:pathLst>
                <a:path w="314" h="1077">
                  <a:moveTo>
                    <a:pt x="96" y="0"/>
                  </a:moveTo>
                  <a:cubicBezTo>
                    <a:pt x="110" y="5"/>
                    <a:pt x="123" y="9"/>
                    <a:pt x="137" y="14"/>
                  </a:cubicBezTo>
                  <a:cubicBezTo>
                    <a:pt x="155" y="20"/>
                    <a:pt x="192" y="28"/>
                    <a:pt x="192" y="28"/>
                  </a:cubicBezTo>
                  <a:cubicBezTo>
                    <a:pt x="208" y="39"/>
                    <a:pt x="224" y="51"/>
                    <a:pt x="240" y="62"/>
                  </a:cubicBezTo>
                  <a:cubicBezTo>
                    <a:pt x="258" y="75"/>
                    <a:pt x="288" y="110"/>
                    <a:pt x="288" y="110"/>
                  </a:cubicBezTo>
                  <a:cubicBezTo>
                    <a:pt x="314" y="186"/>
                    <a:pt x="301" y="137"/>
                    <a:pt x="308" y="261"/>
                  </a:cubicBezTo>
                  <a:cubicBezTo>
                    <a:pt x="306" y="302"/>
                    <a:pt x="307" y="343"/>
                    <a:pt x="302" y="384"/>
                  </a:cubicBezTo>
                  <a:cubicBezTo>
                    <a:pt x="290" y="485"/>
                    <a:pt x="247" y="567"/>
                    <a:pt x="212" y="659"/>
                  </a:cubicBezTo>
                  <a:cubicBezTo>
                    <a:pt x="189" y="720"/>
                    <a:pt x="167" y="779"/>
                    <a:pt x="137" y="837"/>
                  </a:cubicBezTo>
                  <a:cubicBezTo>
                    <a:pt x="112" y="885"/>
                    <a:pt x="86" y="932"/>
                    <a:pt x="62" y="981"/>
                  </a:cubicBezTo>
                  <a:cubicBezTo>
                    <a:pt x="52" y="1002"/>
                    <a:pt x="34" y="1018"/>
                    <a:pt x="20" y="1036"/>
                  </a:cubicBezTo>
                  <a:cubicBezTo>
                    <a:pt x="11" y="1048"/>
                    <a:pt x="0" y="1077"/>
                    <a:pt x="0" y="1077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8756-6D92-4370-A414-DEC8F2B03BF8}" type="slidenum">
              <a:t>6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/>
          </p:nvPr>
        </p:nvSpPr>
        <p:spPr>
          <a:xfrm>
            <a:off x="663480" y="1577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ost hashing discuss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Indexing vs. Has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SQL Index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Multiple Key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Multi Key Ind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s: Grid, Ge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Partitioned Ha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"/>
          <p:cNvSpPr/>
          <p:nvPr/>
        </p:nvSpPr>
        <p:spPr>
          <a:xfrm>
            <a:off x="609480" y="609480"/>
            <a:ext cx="2210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70CB-222D-4999-9822-2C29F5568BB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3632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Reading Chapter 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609480" y="1490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kim the following section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.3.6, 5.3.7, 5.3.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.4.2, 5.4.3, 5.4.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the r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BDE2-56AA-468D-AA24-9B7E2F91568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68360" y="29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IG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picture…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544680" y="1557000"/>
            <a:ext cx="77724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pters 2 &amp; 3: Storage, records, blocks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pter 4 &amp; 5: Access Mechanism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Ind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B tre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Has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Multi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pter 6 &amp; 7: Query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7" name=""/>
          <p:cNvSpPr/>
          <p:nvPr/>
        </p:nvSpPr>
        <p:spPr>
          <a:xfrm>
            <a:off x="6607080" y="440856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EX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8D68-6089-4EFC-83AD-5FC66218DD4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Within a bucket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60240" y="179064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we keep keys sor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660240" y="2844720"/>
            <a:ext cx="77724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es, if CPU time crit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amp; Inserts/Deletes not too frequ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ADDA-F4F0-443D-B72D-B1A2223F8A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Next: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example to illustrate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serts, overflows, delet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(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2286000"/>
            <a:ext cx="7621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3048120"/>
            <a:ext cx="7621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4800600" y="3809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3809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281952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5436-C346-4665-9F6D-2B3CD5A9A98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EXAMPLE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2 records/buck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72840" y="2184480"/>
            <a:ext cx="184140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ER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(a) =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(b) =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(c) =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(d)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733920" y="2209680"/>
            <a:ext cx="1447560" cy="762120"/>
            <a:chOff x="3733920" y="2209680"/>
            <a:chExt cx="1447560" cy="762120"/>
          </a:xfrm>
        </p:grpSpPr>
        <p:sp>
          <p:nvSpPr>
            <p:cNvPr id="109" name=""/>
            <p:cNvSpPr/>
            <p:nvPr/>
          </p:nvSpPr>
          <p:spPr>
            <a:xfrm>
              <a:off x="3733920" y="2209680"/>
              <a:ext cx="12189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952880" y="2209680"/>
              <a:ext cx="22860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33920" y="25909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733920" y="2971800"/>
            <a:ext cx="1447560" cy="762120"/>
            <a:chOff x="3733920" y="2971800"/>
            <a:chExt cx="1447560" cy="762120"/>
          </a:xfrm>
        </p:grpSpPr>
        <p:sp>
          <p:nvSpPr>
            <p:cNvPr id="113" name=""/>
            <p:cNvSpPr/>
            <p:nvPr/>
          </p:nvSpPr>
          <p:spPr>
            <a:xfrm>
              <a:off x="3733920" y="2971800"/>
              <a:ext cx="12189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52880" y="2971800"/>
              <a:ext cx="22860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33920" y="33530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733920" y="3733920"/>
            <a:ext cx="1447560" cy="761760"/>
            <a:chOff x="3733920" y="3733920"/>
            <a:chExt cx="1447560" cy="761760"/>
          </a:xfrm>
        </p:grpSpPr>
        <p:sp>
          <p:nvSpPr>
            <p:cNvPr id="117" name=""/>
            <p:cNvSpPr/>
            <p:nvPr/>
          </p:nvSpPr>
          <p:spPr>
            <a:xfrm>
              <a:off x="3733920" y="3733920"/>
              <a:ext cx="121896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52880" y="3733920"/>
              <a:ext cx="228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33920" y="4114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733920" y="4495680"/>
            <a:ext cx="1447560" cy="762120"/>
            <a:chOff x="3733920" y="4495680"/>
            <a:chExt cx="1447560" cy="762120"/>
          </a:xfrm>
        </p:grpSpPr>
        <p:sp>
          <p:nvSpPr>
            <p:cNvPr id="121" name=""/>
            <p:cNvSpPr/>
            <p:nvPr/>
          </p:nvSpPr>
          <p:spPr>
            <a:xfrm>
              <a:off x="3733920" y="4495680"/>
              <a:ext cx="12189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52880" y="4495680"/>
              <a:ext cx="22860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33920" y="48769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351600" y="2113920"/>
            <a:ext cx="311760" cy="26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2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183200" y="2208600"/>
            <a:ext cx="368280" cy="1983960"/>
            <a:chOff x="4183200" y="2208600"/>
            <a:chExt cx="368280" cy="1983960"/>
          </a:xfrm>
        </p:grpSpPr>
        <p:sp>
          <p:nvSpPr>
            <p:cNvPr id="126" name=""/>
            <p:cNvSpPr/>
            <p:nvPr/>
          </p:nvSpPr>
          <p:spPr>
            <a:xfrm>
              <a:off x="4183200" y="220860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87880" y="289440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91120" y="32756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83200" y="373284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85800" y="5143680"/>
            <a:ext cx="171468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h(e) =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054760" y="2945160"/>
            <a:ext cx="2196720" cy="788760"/>
            <a:chOff x="5054760" y="2945160"/>
            <a:chExt cx="2196720" cy="788760"/>
          </a:xfrm>
        </p:grpSpPr>
        <p:grpSp>
          <p:nvGrpSpPr>
            <p:cNvPr id="132" name=""/>
            <p:cNvGrpSpPr/>
            <p:nvPr/>
          </p:nvGrpSpPr>
          <p:grpSpPr>
            <a:xfrm>
              <a:off x="5803920" y="2971800"/>
              <a:ext cx="1447560" cy="762120"/>
              <a:chOff x="5803920" y="2971800"/>
              <a:chExt cx="1447560" cy="762120"/>
            </a:xfrm>
          </p:grpSpPr>
          <p:sp>
            <p:nvSpPr>
              <p:cNvPr id="133" name=""/>
              <p:cNvSpPr/>
              <p:nvPr/>
            </p:nvSpPr>
            <p:spPr>
              <a:xfrm>
                <a:off x="5803920" y="2971800"/>
                <a:ext cx="1218960" cy="762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2880" y="2971800"/>
                <a:ext cx="22860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803920" y="3353040"/>
                <a:ext cx="121896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5054760" y="3048120"/>
              <a:ext cx="68580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11080" y="29451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4E0E-F1B2-4837-B167-3526DBD990C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3T19:55:20Z</dcterms:created>
  <dc:creator>Siroker</dc:creator>
  <dc:description/>
  <dc:language>en-US</dc:language>
  <cp:lastModifiedBy>Hector Garcia-Molina</cp:lastModifiedBy>
  <cp:lastPrinted>2000-01-27T18:10:28Z</cp:lastPrinted>
  <dcterms:modified xsi:type="dcterms:W3CDTF">2007-02-01T21:02:47Z</dcterms:modified>
  <cp:revision>161</cp:revision>
  <dc:subject/>
  <dc:title>CS 245: Database System Principles</dc:title>
</cp:coreProperties>
</file>